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camera.wav" ContentType="audio/x-wav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661B-4B9C-4EED-A6CE-E49981D65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There are two major network structures using these uni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The first one is a feed-forward net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It’s just an arbitrary function of its current inpu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And there is no internal state other than weigh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The second one is a recurrent net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This kind of network feeds its outputs back into its own inpu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This structure can support a short-term mem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But it’s rather difficult to underst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e can represent the output of each unit as a function of its input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the network as a whole is a function of its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weights act as parameter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network as a whole is a function of its inpu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weights correspond to paramete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 neural network can be used for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classification or regressi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 For Boolean classif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ith continuous outputs (e.g., with sigmoid units), it is traditional to have a single output uni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ith a value over 0.5 interpreted as one class and a value below 0.5 as the other. For k-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assification, one could divide the single output unit’s range into k portions, but it is m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mmon to have k separate output units, with the value of each one representing the rel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ikelihood of that class given the current in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Perceptron invented by Frank Rosenblatt in 1957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When perceptron was first introduced, this issue created considerable sens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Perceptron was the first neural network modeled by correct computation and affected many fiel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Perceptron also became the foundation of pattern recognition resear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사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This guy is Frank Rosenblatt inventor of perceptr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And this one is Mark ⅠPerceptron image sensor that is the first neural network equipm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Single layer neural network also called perceptron network is a network with all the inputs connected directly to the outpu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그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a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This is a perceptron network consisting of three perceptron output units that share five inputs. Each output unit is independent of the oth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So we can limit our study to perceptrons with a single output uni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그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b&gt; --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삭제해도 무관함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This is a graph of the output of a two-input perceptron unit using a sigmoid activation fun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Single layer neural network also called perceptron network is a network with all the inputs connected directly to the outpu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그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a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This is a perceptron network consisting of three perceptron output units that share five inputs. Each output unit is independent of the oth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So we can limit our study to perceptrons with a single output uni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그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b&gt; --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삭제해도 무관함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This is a graph of the output of a two-input perceptron unit using a sigmoid activation fun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de is a processing element which produces an output based on a function of it’s inpu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ston, p. 4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ed neuron is viewed as a…Node connected to other no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s are the axons and dendri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 associated with a weight.  Like a synapse, that weight determines the nature and strength of one node’s influence on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s are the primary means for long-term storage (plasticity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node’s influence on another is the output value of the first times the weight on the connecting link.  Large/small, +/- weight corresponds to strong/weak excitation/inhibition. (Models combining influences of set of dendrit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of each node is determined by a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ation fun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Usually 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reshold fun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Combines the influences from input links. Sum of weighted inputs. Output is either 0 or 1. (Models the cell body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Many facets of real neurons are NOT model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3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8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46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8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46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3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295280" y="1752480"/>
            <a:ext cx="784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295280" y="1752480"/>
            <a:ext cx="784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20040" y="647388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arla P. Gom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S47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sic Concep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257800" y="1828800"/>
          <a:ext cx="2749680" cy="29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828800"/>
                    <a:ext cx="274968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228600" y="1828800"/>
            <a:ext cx="487692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eural Network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aps a set of inputs to a set of out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puts/outputs is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etwork itsel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composed of 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bitrary number of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nodes or units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y links,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n arbitrary topolog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 link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unit i to unit j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s to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pagate the activation a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to j, and it has a weight W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5105520"/>
            <a:ext cx="8382240" cy="19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can a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eural networks 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a known function / Approximate an unknown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ttern Recognition / Signal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rn to do any of the ab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Gulim"/>
              </a:rPr>
              <a:t>Network Structu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Gulim"/>
              </a:rPr>
              <a:t>Acyclic or Feed-forward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Gulim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Activation flows from input layer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output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ingle-layer percep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multi-layer percep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Gulim"/>
              </a:rPr>
              <a:t>Recurrent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Feed the outputs back into own in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-17820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Network is a dynamical syst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(stable state, oscillations, chaotic behavi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-17820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Response of the network depends on initial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an support short-term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More difficult to underst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234200" y="4114800"/>
            <a:ext cx="1909800" cy="2187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083280" y="1916280"/>
            <a:ext cx="2952720" cy="21636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216800" y="3733920"/>
            <a:ext cx="438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ed-forward networks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implement function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have no internal state (only weights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1828800"/>
            <a:ext cx="5029200" cy="2514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97120" y="182880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Our foc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4419720"/>
            <a:ext cx="6400800" cy="243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ed-forward Network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presents a function of Its Input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371600" y="2209680"/>
            <a:ext cx="4191120" cy="2059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517480" y="1866960"/>
            <a:ext cx="16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Two hidden un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41680" y="1866960"/>
            <a:ext cx="160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Two input  un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24760" y="186696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One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39520" y="5791320"/>
            <a:ext cx="546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djusting the weigh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e get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different func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 is how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learning is done in neural network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40000" y="2590920"/>
            <a:ext cx="296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unit receives input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units in th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immediat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receding lay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-4680" y="4114800"/>
            <a:ext cx="840600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iven an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nput vector x = (x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,x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)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activations of the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nput units are set to values of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nput vector, i.e., (a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,a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)=(x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,x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)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the network computes: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3520" y="5486400"/>
            <a:ext cx="8058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ed-forward network  computes a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arameterized family of  functions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x)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4120" y="3657600"/>
            <a:ext cx="135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(Bias unit  omit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for simplic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838080" y="4800600"/>
            <a:ext cx="3019680" cy="3524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144440" y="5181480"/>
            <a:ext cx="6551640" cy="3621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-16560" y="6540480"/>
            <a:ext cx="493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: the input layer in general does not include computing unit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887000" y="4648320"/>
            <a:ext cx="3640320" cy="457200"/>
            <a:chOff x="4887000" y="4648320"/>
            <a:chExt cx="3640320" cy="457200"/>
          </a:xfrm>
        </p:grpSpPr>
        <p:sp>
          <p:nvSpPr>
            <p:cNvPr id="176" name=""/>
            <p:cNvSpPr/>
            <p:nvPr/>
          </p:nvSpPr>
          <p:spPr>
            <a:xfrm>
              <a:off x="4887000" y="4648320"/>
              <a:ext cx="364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Weights are the parameters of the fun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5562360" y="5005440"/>
              <a:ext cx="1143000" cy="100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ed-forward Network (contd.)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eural network can be used for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lassifica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gress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olean classific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continuous outputs (e.g., with sigmoi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ts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ypically a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ingle output un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value&gt; 0.5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e cla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k-way classific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e could divide the single output unit’s ran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o k portion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ypically,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k separate output uni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ith the value of ea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representing the relative likelihood of that class given the curr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Gulim"/>
              </a:rPr>
              <a:t>Perceptr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Gulim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579840" y="2209680"/>
            <a:ext cx="5564160" cy="45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ercept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Invented by Frank Rosenblatt in 1957 in an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Gulim"/>
              </a:rPr>
              <a:t>attempt to understand human memory, learning, and cognitive processes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first neural network model by computation, with a remarkable learning algorith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Gulim"/>
              </a:rPr>
              <a:t>If function can  be represented by perceptron, the learning algorithm is guaranteed to quickly converge to the hidden funct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Became the foundation of pattern recognition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0" y="2209680"/>
            <a:ext cx="3048120" cy="4467600"/>
            <a:chOff x="0" y="2209680"/>
            <a:chExt cx="3048120" cy="4467600"/>
          </a:xfrm>
        </p:grpSpPr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380880" y="2209680"/>
              <a:ext cx="2454480" cy="271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0" y="5211720"/>
              <a:ext cx="3048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senblatt &amp;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rk I Perceptro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e first machine that could </a:t>
              </a: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"learn" to recognize and identify optical patterns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49760" y="1828800"/>
            <a:ext cx="32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ornell Aeronautical Laborato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95480" y="5667840"/>
            <a:ext cx="601992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of the earliest and most influential neural network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important milestone in A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erceptr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2291040" cy="3429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429000" y="2743200"/>
            <a:ext cx="510552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SENBLATT, Frank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(Cornell Aeronautical Laboratory at Cornell University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erceptron: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stic Model for Information Storage and Organization in the Brai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, Psychological Review, Vol. 65, No. 6, pp. 386-408, November, 195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Single Layer Feed-forward Neural Network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Perceptr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1048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ingle-layer neural network (perceptron networ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 network with all the inputs connected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Gulim"/>
              </a:rPr>
              <a:t>directl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the out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64400" y="4143240"/>
            <a:ext cx="3085560" cy="131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each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nit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dependent of the oth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limit our stud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ingle output perceptr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37960" y="3048120"/>
            <a:ext cx="56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units all operat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eparatel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no shared wei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590920" y="3581280"/>
            <a:ext cx="3009960" cy="297360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2819160" y="3657240"/>
            <a:ext cx="914760" cy="1371960"/>
            <a:chOff x="2819160" y="3657240"/>
            <a:chExt cx="914760" cy="1371960"/>
          </a:xfrm>
        </p:grpSpPr>
        <p:sp>
          <p:nvSpPr>
            <p:cNvPr id="196" name=""/>
            <p:cNvSpPr/>
            <p:nvPr/>
          </p:nvSpPr>
          <p:spPr>
            <a:xfrm>
              <a:off x="3505320" y="43434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flipV="1">
              <a:off x="2819160" y="3657240"/>
              <a:ext cx="60948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819520" y="4495680"/>
              <a:ext cx="68580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819520" y="44956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819520" y="3962520"/>
              <a:ext cx="68580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819520" y="4191120"/>
              <a:ext cx="6858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2819520" y="4495320"/>
              <a:ext cx="6858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267080" y="3505320"/>
            <a:ext cx="129564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ceptron to Learn to Identify Digits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From Pat. Winston, MIT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-5760" y="1828800"/>
            <a:ext cx="2457720" cy="2471040"/>
            <a:chOff x="-5760" y="1828800"/>
            <a:chExt cx="2457720" cy="2471040"/>
          </a:xfrm>
        </p:grpSpPr>
        <p:pic>
          <p:nvPicPr>
            <p:cNvPr id="206" name="" descr=""/>
            <p:cNvPicPr/>
            <p:nvPr/>
          </p:nvPicPr>
          <p:blipFill>
            <a:blip r:embed="rId1"/>
            <a:stretch/>
          </p:blipFill>
          <p:spPr>
            <a:xfrm>
              <a:off x="399960" y="1828800"/>
              <a:ext cx="1752120" cy="13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-5760" y="3291120"/>
              <a:ext cx="2457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ven line seg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re enough to produ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ll 10 dig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685800" y="4495680"/>
            <a:ext cx="1295280" cy="2286000"/>
            <a:chOff x="685800" y="4495680"/>
            <a:chExt cx="1295280" cy="2286000"/>
          </a:xfrm>
        </p:grpSpPr>
        <p:sp>
          <p:nvSpPr>
            <p:cNvPr id="209" name=""/>
            <p:cNvSpPr/>
            <p:nvPr/>
          </p:nvSpPr>
          <p:spPr>
            <a:xfrm>
              <a:off x="990720" y="6477120"/>
              <a:ext cx="6858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1485720" y="4990680"/>
              <a:ext cx="6858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495360" y="4990680"/>
              <a:ext cx="6858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6200000">
              <a:off x="1485720" y="5981400"/>
              <a:ext cx="6858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6200000">
              <a:off x="495360" y="5981400"/>
              <a:ext cx="6858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990720" y="5486400"/>
              <a:ext cx="6858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90720" y="4495680"/>
              <a:ext cx="6858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6" name=""/>
          <p:cNvGraphicFramePr/>
          <p:nvPr/>
        </p:nvGraphicFramePr>
        <p:xfrm>
          <a:off x="2514600" y="1905120"/>
          <a:ext cx="5418000" cy="4381560"/>
        </p:xfrm>
        <a:graphic>
          <a:graphicData uri="http://schemas.openxmlformats.org/drawingml/2006/table">
            <a:tbl>
              <a:tblPr/>
              <a:tblGrid>
                <a:gridCol w="677880"/>
                <a:gridCol w="676080"/>
                <a:gridCol w="627120"/>
                <a:gridCol w="728640"/>
                <a:gridCol w="676440"/>
                <a:gridCol w="652320"/>
                <a:gridCol w="703440"/>
                <a:gridCol w="676080"/>
              </a:tblGrid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g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ceptron to Learn to Identify Digits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From Pat. Winston, MIT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048120" y="2289240"/>
            <a:ext cx="5638680" cy="3673440"/>
          </a:xfrm>
          <a:prstGeom prst="rect">
            <a:avLst/>
          </a:prstGeom>
          <a:ln w="0">
            <a:noFill/>
          </a:ln>
        </p:spPr>
      </p:pic>
      <p:grpSp>
        <p:nvGrpSpPr>
          <p:cNvPr id="219" name=""/>
          <p:cNvGrpSpPr/>
          <p:nvPr/>
        </p:nvGrpSpPr>
        <p:grpSpPr>
          <a:xfrm>
            <a:off x="-5760" y="1828800"/>
            <a:ext cx="2457720" cy="2471040"/>
            <a:chOff x="-5760" y="1828800"/>
            <a:chExt cx="2457720" cy="2471040"/>
          </a:xfrm>
        </p:grpSpPr>
        <p:pic>
          <p:nvPicPr>
            <p:cNvPr id="220" name="" descr=""/>
            <p:cNvPicPr/>
            <p:nvPr/>
          </p:nvPicPr>
          <p:blipFill>
            <a:blip r:embed="rId2"/>
            <a:stretch/>
          </p:blipFill>
          <p:spPr>
            <a:xfrm>
              <a:off x="399960" y="1828800"/>
              <a:ext cx="1752120" cy="13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-5760" y="3291120"/>
              <a:ext cx="2457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ven line seg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re enough to produ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ll 10 dig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654000" y="5942160"/>
            <a:ext cx="510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vision system reports which of the seven segm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display are on, therefore producing the 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the perceptr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685800" y="4495680"/>
            <a:ext cx="1295280" cy="2286000"/>
            <a:chOff x="685800" y="4495680"/>
            <a:chExt cx="1295280" cy="2286000"/>
          </a:xfrm>
        </p:grpSpPr>
        <p:sp>
          <p:nvSpPr>
            <p:cNvPr id="224" name=""/>
            <p:cNvSpPr/>
            <p:nvPr/>
          </p:nvSpPr>
          <p:spPr>
            <a:xfrm>
              <a:off x="990720" y="6477120"/>
              <a:ext cx="6858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16200000">
              <a:off x="1485720" y="4990680"/>
              <a:ext cx="6858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6200000">
              <a:off x="495360" y="4990680"/>
              <a:ext cx="6858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1485720" y="5981400"/>
              <a:ext cx="6858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6200000">
              <a:off x="495360" y="5981400"/>
              <a:ext cx="6858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90720" y="5486400"/>
              <a:ext cx="6858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990720" y="4495680"/>
              <a:ext cx="6858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ceptron to Learn to Identify Digit 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-5760" y="1828800"/>
            <a:ext cx="2457720" cy="2471040"/>
            <a:chOff x="-5760" y="1828800"/>
            <a:chExt cx="2457720" cy="2471040"/>
          </a:xfrm>
        </p:grpSpPr>
        <p:pic>
          <p:nvPicPr>
            <p:cNvPr id="233" name="" descr=""/>
            <p:cNvPicPr/>
            <p:nvPr/>
          </p:nvPicPr>
          <p:blipFill>
            <a:blip r:embed="rId1"/>
            <a:stretch/>
          </p:blipFill>
          <p:spPr>
            <a:xfrm>
              <a:off x="399960" y="1828800"/>
              <a:ext cx="1752120" cy="13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-5760" y="3291120"/>
              <a:ext cx="2457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ven line seg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re enough to produ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ll 10 dig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2209680" y="60958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vision system reports which of the seven segm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display are on, therefore producing the inputs for the  perceptr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685800" y="4495680"/>
            <a:ext cx="1295280" cy="2286000"/>
            <a:chOff x="685800" y="4495680"/>
            <a:chExt cx="1295280" cy="2286000"/>
          </a:xfrm>
        </p:grpSpPr>
        <p:sp>
          <p:nvSpPr>
            <p:cNvPr id="237" name=""/>
            <p:cNvSpPr/>
            <p:nvPr/>
          </p:nvSpPr>
          <p:spPr>
            <a:xfrm>
              <a:off x="990720" y="6477120"/>
              <a:ext cx="6858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6200000">
              <a:off x="1485720" y="4990680"/>
              <a:ext cx="6858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6200000">
              <a:off x="495360" y="4990680"/>
              <a:ext cx="6858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6200000">
              <a:off x="1485720" y="5981400"/>
              <a:ext cx="6858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6200000">
              <a:off x="495360" y="5981400"/>
              <a:ext cx="6858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90720" y="5486400"/>
              <a:ext cx="6858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90720" y="4495680"/>
              <a:ext cx="6858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048120" y="2438280"/>
            <a:ext cx="5638680" cy="3673440"/>
            <a:chOff x="3048120" y="2438280"/>
            <a:chExt cx="5638680" cy="3673440"/>
          </a:xfrm>
        </p:grpSpPr>
        <p:pic>
          <p:nvPicPr>
            <p:cNvPr id="245" name="" descr=""/>
            <p:cNvPicPr/>
            <p:nvPr/>
          </p:nvPicPr>
          <p:blipFill>
            <a:blip r:embed="rId2"/>
            <a:stretch/>
          </p:blipFill>
          <p:spPr>
            <a:xfrm>
              <a:off x="3048120" y="2438280"/>
              <a:ext cx="5638680" cy="36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6096960" y="3246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96960" y="35622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96960" y="38066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96960" y="4095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96960" y="43243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96240" y="295272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96960" y="4628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96960" y="49496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54" name=""/>
          <p:cNvGraphicFramePr/>
          <p:nvPr/>
        </p:nvGraphicFramePr>
        <p:xfrm>
          <a:off x="3200400" y="914400"/>
          <a:ext cx="6094440" cy="1465200"/>
        </p:xfrm>
        <a:graphic>
          <a:graphicData uri="http://schemas.openxmlformats.org/drawingml/2006/table">
            <a:tbl>
              <a:tblPr/>
              <a:tblGrid>
                <a:gridCol w="677880"/>
                <a:gridCol w="676080"/>
                <a:gridCol w="627120"/>
                <a:gridCol w="728640"/>
                <a:gridCol w="676440"/>
                <a:gridCol w="652320"/>
                <a:gridCol w="703440"/>
                <a:gridCol w="439560"/>
                <a:gridCol w="912960"/>
              </a:tblGrid>
              <a:tr h="114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g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fixed inpu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6322320" y="5334120"/>
            <a:ext cx="235404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m&gt;0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output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output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405120" y="2538360"/>
            <a:ext cx="2297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hen the input digit  is 0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hat’s the value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um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Single Layer Feed-forward Neural Network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Perceptr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4432320" cy="32162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219320" y="548640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wo input perceptr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unit with a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igmoid (logistics) activation fun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adjusting weights moves the location, orientation, and steepness of cli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3886200" y="6095880"/>
            <a:ext cx="1238400" cy="40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360" y="3048120"/>
            <a:ext cx="19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Diffe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types of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47920" y="2270160"/>
            <a:ext cx="4800600" cy="35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ceptron Learning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ui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ight Up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j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j=1,2,…,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output O: target output, 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some initial weig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 example error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 = T –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w just move weights in right directio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error is positive, then we need to increase 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 &gt;0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eed to increase 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 &lt;0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eed to decrease 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input unit j, contributes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otal inp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positive, increasing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ends to increase 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negative, decreasing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ends to increase 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o, u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W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+ 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I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Er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ceptron Learning Rule (Rosenblatt 196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13200" y="601992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is the learning 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162920" y="2133720"/>
            <a:ext cx="1242720" cy="28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’s consider an example (adapted from Patrick Wintson book, M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mework and no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/1 sig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vecto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ight vect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-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imulate the thresho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 is output (0 or 1) (single outpu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shold fun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ceptron Learning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mple Exampl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867040" y="2895480"/>
                <a:ext cx="272268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r>
                              <m:t xml:space="preserve">X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rPr>
                            <m:lit/>
                            <m:nor/>
                          </m:rPr>
                          <m:t xml:space="preserve">=&lt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&gt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2844720" y="3608280"/>
                <a:ext cx="292284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r>
                              <m:t xml:space="preserve">W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rPr>
                            <m:lit/>
                            <m:nor/>
                          </m:rPr>
                          <m:t xml:space="preserve">=&lt;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&gt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276720" y="5823000"/>
                <a:ext cx="42829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  <m:r>
                          <m:t xml:space="preserve"> 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lse</m:t>
                        </m:r>
                        <m:r>
                          <m:t xml:space="preserve"> 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6170400" y="5334120"/>
            <a:ext cx="237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rate =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of examples, each example is a pai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.e., an input vector and a label y (0 or 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rning procedure, called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error correcting method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all zero weight v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ycle (repeatedly) through examples and for each example 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perceptron is 0 while it should be 1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the input vector to the weight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perceptron is 1 while it should be 0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tract  the input vector to the weight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wise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ceptron Learning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mple Exampl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46600" y="914400"/>
            <a:ext cx="2707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W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+ 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I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Er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3760" y="4572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rr = T –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4495680" y="1828800"/>
                <a:ext cx="8463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limUpp>
                          <m:e>
                            <m:r>
                              <m:t xml:space="preserve">x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7" name=""/>
          <p:cNvGrpSpPr/>
          <p:nvPr/>
        </p:nvGrpSpPr>
        <p:grpSpPr>
          <a:xfrm>
            <a:off x="5791320" y="4950000"/>
            <a:ext cx="2328840" cy="1465560"/>
            <a:chOff x="5791320" y="4950000"/>
            <a:chExt cx="2328840" cy="1465560"/>
          </a:xfrm>
        </p:grpSpPr>
        <p:sp>
          <p:nvSpPr>
            <p:cNvPr id="278" name=""/>
            <p:cNvSpPr/>
            <p:nvPr/>
          </p:nvSpPr>
          <p:spPr>
            <a:xfrm>
              <a:off x="6230880" y="4950000"/>
              <a:ext cx="18892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Intuitively correct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(e.g., if output is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but it should be 1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the weights 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increased) 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5791320" y="514044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5489280" y="1981080"/>
            <a:ext cx="3477240" cy="1465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procedure provably converg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olynomial number of  ste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the function is represen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y a perceptr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.e., linearly separab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500" autoRev="1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19" dur="500" autoRev="1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20" dur="500" autoRev="1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ceptron Learning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mple Exampl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learning the logical OR fun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r examples 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3200400" y="5562720"/>
                <a:ext cx="42829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  <m:r>
                          <m:t xml:space="preserve"> 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lse</m:t>
                        </m:r>
                        <m:r>
                          <m:t xml:space="preserve"> 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685440" y="5638680"/>
            <a:ext cx="202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ivation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ceptron Learning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mple Exampl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’ll use a single perceptron with three inpu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’ll start with all weights 0 W=  &lt;0,0,0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1      I= &lt; 1 0 0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bel=0 W=  &lt;0,0,0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ceptron (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+ 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+ 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, S=0) outpu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classifies it as 0, so correct, do n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2       I=&lt;1 0 1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bel=1 W=  &lt;0,0,0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ceptron (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+ 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+ 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) outpu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classifies it as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, while it should be 1, s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we add input to weig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 = &lt;0,0,0&gt; + &lt;1,0,1&gt;= &lt;1,0,1&gt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6629400" y="1981080"/>
            <a:ext cx="1295280" cy="1881720"/>
            <a:chOff x="6629400" y="1981080"/>
            <a:chExt cx="1295280" cy="1881720"/>
          </a:xfrm>
        </p:grpSpPr>
        <p:grpSp>
          <p:nvGrpSpPr>
            <p:cNvPr id="288" name=""/>
            <p:cNvGrpSpPr/>
            <p:nvPr/>
          </p:nvGrpSpPr>
          <p:grpSpPr>
            <a:xfrm>
              <a:off x="6629400" y="2016000"/>
              <a:ext cx="1295280" cy="1752840"/>
              <a:chOff x="6629400" y="2016000"/>
              <a:chExt cx="1295280" cy="1752840"/>
            </a:xfrm>
          </p:grpSpPr>
          <p:sp>
            <p:nvSpPr>
              <p:cNvPr id="289" name=""/>
              <p:cNvSpPr/>
              <p:nvPr/>
            </p:nvSpPr>
            <p:spPr>
              <a:xfrm>
                <a:off x="6629400" y="2016000"/>
                <a:ext cx="342720" cy="381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667200" y="2701800"/>
                <a:ext cx="343080" cy="381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667200" y="3387600"/>
                <a:ext cx="343080" cy="381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581600" y="2701800"/>
                <a:ext cx="343080" cy="381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895800" y="2320920"/>
                <a:ext cx="68580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972120" y="285444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6972120" y="2854440"/>
                <a:ext cx="60948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7117200" y="1981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04124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117200" y="3352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0" y="-44280"/>
                <a:ext cx="42829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  <m:r>
                          <m:t xml:space="preserve"> 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lse</m:t>
                        </m:r>
                        <m:r>
                          <m:t xml:space="preserve"> 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676764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52280" y="762120"/>
            <a:ext cx="617220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perceptron is 0 while it should be 1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 input vector to the weight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perceptron is 1 while it should be 0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  the input vector to the weight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wise do noth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40" y="533520"/>
            <a:ext cx="21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Error correcting metho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3       I=&lt;1 1 0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bel=1 W=  &lt;1,0,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ceptron (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+ 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+ 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0)  output =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classifies it as 1, correct, do n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 = &lt;1,0,1&gt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4       I=&lt;1 1 1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bel=1 W=  &lt;1,0,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ceptron (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+ 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+ 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0)  output =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classifies it as 1, correct, do n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 = &lt;1,0,1&gt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6629400" y="1981080"/>
            <a:ext cx="1295280" cy="1881720"/>
            <a:chOff x="6629400" y="1981080"/>
            <a:chExt cx="1295280" cy="1881720"/>
          </a:xfrm>
        </p:grpSpPr>
        <p:grpSp>
          <p:nvGrpSpPr>
            <p:cNvPr id="306" name=""/>
            <p:cNvGrpSpPr/>
            <p:nvPr/>
          </p:nvGrpSpPr>
          <p:grpSpPr>
            <a:xfrm>
              <a:off x="6629400" y="2016000"/>
              <a:ext cx="1295280" cy="1752840"/>
              <a:chOff x="6629400" y="2016000"/>
              <a:chExt cx="1295280" cy="1752840"/>
            </a:xfrm>
          </p:grpSpPr>
          <p:sp>
            <p:nvSpPr>
              <p:cNvPr id="307" name=""/>
              <p:cNvSpPr/>
              <p:nvPr/>
            </p:nvSpPr>
            <p:spPr>
              <a:xfrm>
                <a:off x="6629400" y="2016000"/>
                <a:ext cx="342720" cy="381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667200" y="2701800"/>
                <a:ext cx="343080" cy="381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667200" y="3387600"/>
                <a:ext cx="343080" cy="381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581600" y="2701800"/>
                <a:ext cx="343080" cy="381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95800" y="2320920"/>
                <a:ext cx="68580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972120" y="285444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6972120" y="2854440"/>
                <a:ext cx="60948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7117200" y="1981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124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117200" y="3352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684396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ceptron Learning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mple Exampl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poch 2, through the examples, W = &lt;1,0,1&gt;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1      I = &lt;1,0,0&gt;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bel=0 W = &lt;1,0,1&gt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ceptron (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+ 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+ 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0) outpu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classifies it as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, while it should be 0, so subtract input from weig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 = &lt;1,0,1&gt;  - &lt;1,0,0&gt; = &lt;0, 0, 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2       I=&lt;1 0 1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bel=1 W=  &lt;0,0,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ceptron (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+ 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+ 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0) outpu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classifies it as 1, so correct, do n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7162920" y="1752480"/>
            <a:ext cx="1295280" cy="1881720"/>
            <a:chOff x="7162920" y="1752480"/>
            <a:chExt cx="1295280" cy="1881720"/>
          </a:xfrm>
        </p:grpSpPr>
        <p:grpSp>
          <p:nvGrpSpPr>
            <p:cNvPr id="321" name=""/>
            <p:cNvGrpSpPr/>
            <p:nvPr/>
          </p:nvGrpSpPr>
          <p:grpSpPr>
            <a:xfrm>
              <a:off x="7162920" y="1787400"/>
              <a:ext cx="1295280" cy="1752840"/>
              <a:chOff x="7162920" y="1787400"/>
              <a:chExt cx="1295280" cy="1752840"/>
            </a:xfrm>
          </p:grpSpPr>
          <p:sp>
            <p:nvSpPr>
              <p:cNvPr id="322" name=""/>
              <p:cNvSpPr/>
              <p:nvPr/>
            </p:nvSpPr>
            <p:spPr>
              <a:xfrm>
                <a:off x="7162920" y="1787400"/>
                <a:ext cx="342720" cy="381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200720" y="2473200"/>
                <a:ext cx="343080" cy="381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200720" y="3159000"/>
                <a:ext cx="343080" cy="381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115120" y="2473200"/>
                <a:ext cx="343080" cy="381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429320" y="2092320"/>
                <a:ext cx="68580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505640" y="262584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7505640" y="2625840"/>
                <a:ext cx="60948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7650720" y="17524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4760" y="25146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65072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152280" y="609480"/>
            <a:ext cx="617220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perceptron is 0 while it should be 1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 input vector to the weight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perceptron is 1 while it should be 0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  the input vector from  the weight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wise do noth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40" y="380880"/>
            <a:ext cx="21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Error correcting metho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4396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3       I=&lt;1 1 0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bel=1 W=  &lt;0,0,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ceptron (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+ 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+ 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0)  output =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classifies it as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, while it should be 1, so add input to weig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 = &lt;0,0,1&gt;  + W = &lt;1,1,0&gt;  = &lt;1, 1, 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4       I=&lt;1 1 1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bel=1 W=  &lt;1,1,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ceptron (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+ 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+ 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0)  output =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classifies it as 1, correct, do n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 = &lt;1,1,1&gt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ceptron Learning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mple Exampl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poch 3, through the examples, W = &lt;1,1,1&gt;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1      I=&lt;1,0,0&gt;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bel=0 W = &lt;1,1,1&gt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ceptron (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+ 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+ 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0) outpu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classifies it as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, while it should be 0, so subtract input from weig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 = &lt;1,1,1&gt;  - W = &lt;1,0,0&gt;  = &lt;0, 1, 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2       I=&lt;1 0 1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bel=1 W=  &lt;0, 1, 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ceptron (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+ 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+ 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0) outpu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classifies it as 1, so correct, do n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7543800" y="1752480"/>
            <a:ext cx="1295280" cy="1881720"/>
            <a:chOff x="7543800" y="1752480"/>
            <a:chExt cx="1295280" cy="1881720"/>
          </a:xfrm>
        </p:grpSpPr>
        <p:grpSp>
          <p:nvGrpSpPr>
            <p:cNvPr id="340" name=""/>
            <p:cNvGrpSpPr/>
            <p:nvPr/>
          </p:nvGrpSpPr>
          <p:grpSpPr>
            <a:xfrm>
              <a:off x="7543800" y="1787400"/>
              <a:ext cx="1295280" cy="1752840"/>
              <a:chOff x="7543800" y="1787400"/>
              <a:chExt cx="1295280" cy="1752840"/>
            </a:xfrm>
          </p:grpSpPr>
          <p:sp>
            <p:nvSpPr>
              <p:cNvPr id="341" name=""/>
              <p:cNvSpPr/>
              <p:nvPr/>
            </p:nvSpPr>
            <p:spPr>
              <a:xfrm>
                <a:off x="7543800" y="1787400"/>
                <a:ext cx="342720" cy="381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581600" y="2473200"/>
                <a:ext cx="343080" cy="381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581600" y="3159000"/>
                <a:ext cx="343080" cy="381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496000" y="2473200"/>
                <a:ext cx="343080" cy="381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810200" y="2092320"/>
                <a:ext cx="68580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886520" y="262584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7886520" y="2625840"/>
                <a:ext cx="60948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>
              <a:off x="8031600" y="17524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955640" y="25146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3160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720900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3       I=&lt;1 1 0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bel=1 W=  &lt;0, 1, 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ceptron (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+ 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+ 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0)  output =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classifies it as 1, correct, do n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4       I=&lt;1 1 1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bel=1 W=  &lt;0, 1, 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ceptron (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+ 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+ 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0)  output =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classifies it as 1, correct, do n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 = &lt;1,1,1&gt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5181480" y="2620800"/>
            <a:ext cx="4572000" cy="2990160"/>
            <a:chOff x="5181480" y="2620800"/>
            <a:chExt cx="4572000" cy="299016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5334120" y="2620800"/>
              <a:ext cx="189540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81480" y="3916440"/>
              <a:ext cx="4572000" cy="16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Gulim"/>
                </a:rPr>
                <a:t>Outpu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 edges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each with </a:t>
              </a:r>
              <a:r>
                <a:rPr b="0" i="1" lang="en-US" sz="1800" spc="-1" strike="noStrike">
                  <a:solidFill>
                    <a:srgbClr val="3333cc"/>
                  </a:solidFill>
                  <a:latin typeface="Times New Roman"/>
                  <a:ea typeface="Gulim"/>
                </a:rPr>
                <a:t>weigh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(positive, negative, an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change over time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learnin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-459720" y="2163600"/>
            <a:ext cx="3796560" cy="3294720"/>
            <a:chOff x="-459720" y="2163600"/>
            <a:chExt cx="3796560" cy="3294720"/>
          </a:xfrm>
        </p:grpSpPr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1346400" y="2163600"/>
              <a:ext cx="1990440" cy="17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-459720" y="3763800"/>
              <a:ext cx="2837160" cy="16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Gulim"/>
                </a:rPr>
                <a:t>Inpu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 edges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each with </a:t>
              </a:r>
              <a:r>
                <a:rPr b="0" i="1" lang="en-US" sz="1800" spc="-1" strike="noStrike">
                  <a:solidFill>
                    <a:srgbClr val="3333cc"/>
                  </a:solidFill>
                  <a:latin typeface="Times New Roman"/>
                  <a:ea typeface="Gulim"/>
                </a:rPr>
                <a:t>weigh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(positive, negative, an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change over time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learnin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An Artificial Neur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Node or Unit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A Mathematical Abstrac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2773440"/>
            <a:ext cx="2286000" cy="1143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0920" y="1752480"/>
            <a:ext cx="182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rtificial Neur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ode or unit 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rocessing Unit 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481560" y="3078000"/>
            <a:ext cx="328320" cy="505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86200" y="284940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362320" y="5334120"/>
                <a:ext cx="114300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2281320" y="3581280"/>
            <a:ext cx="1376280" cy="21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np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unction(i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ighted 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 its input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xed input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79132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 processing element producing an output based on a function of its in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962520" y="2849400"/>
            <a:ext cx="723960" cy="962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571560" y="3992400"/>
            <a:ext cx="137844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Acti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unction (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ied 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put func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ypical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n-linear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0600" y="284940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4981680" y="3154320"/>
            <a:ext cx="276120" cy="247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876920" y="36576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Outpu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952880" y="4221000"/>
                <a:ext cx="13924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28080" y="6248520"/>
            <a:ext cx="8277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the fixed input and bias weight are conventional; some authors instead, e.g., or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1 and  -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0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ceptron Learning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mple Exampl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poch 4, through the examples, W=  &lt;0, 1, 1&gt;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1      I=  &lt;1,0,0&gt;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bel=0 W = &lt;0,1,1&gt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ceptron (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+ 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+ 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) outpu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classifies it as 0, so correct, do n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7010280" y="2743200"/>
            <a:ext cx="1295280" cy="1894680"/>
            <a:chOff x="7010280" y="2743200"/>
            <a:chExt cx="1295280" cy="1894680"/>
          </a:xfrm>
        </p:grpSpPr>
        <p:grpSp>
          <p:nvGrpSpPr>
            <p:cNvPr id="357" name=""/>
            <p:cNvGrpSpPr/>
            <p:nvPr/>
          </p:nvGrpSpPr>
          <p:grpSpPr>
            <a:xfrm>
              <a:off x="7010280" y="2743200"/>
              <a:ext cx="1295280" cy="1752120"/>
              <a:chOff x="7010280" y="2743200"/>
              <a:chExt cx="1295280" cy="1752120"/>
            </a:xfrm>
          </p:grpSpPr>
          <p:sp>
            <p:nvSpPr>
              <p:cNvPr id="358" name=""/>
              <p:cNvSpPr/>
              <p:nvPr/>
            </p:nvSpPr>
            <p:spPr>
              <a:xfrm>
                <a:off x="7010280" y="2743200"/>
                <a:ext cx="34272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048080" y="3428640"/>
                <a:ext cx="34308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048080" y="4114440"/>
                <a:ext cx="34308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962480" y="3428640"/>
                <a:ext cx="34308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276680" y="3047760"/>
                <a:ext cx="6858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53000" y="35812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7353000" y="3580920"/>
                <a:ext cx="609480" cy="76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7322760" y="2784240"/>
              <a:ext cx="741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396920" y="3546360"/>
              <a:ext cx="70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396920" y="4232160"/>
              <a:ext cx="70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7317720" y="472428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1320" y="4800600"/>
            <a:ext cx="6807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o the final weight vector W=  &lt;0, 1, 1&gt; classifies al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xamples correctly, and the perceptron has learned the function!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75400" y="5729400"/>
            <a:ext cx="6025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ide: in more realistic cases the bias (W0) will not be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his was just a toy example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, in general, many more inputs (100 to 1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9800" y="2209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838080" y="485640"/>
          <a:ext cx="7391520" cy="5305680"/>
        </p:xfrm>
        <a:graphic>
          <a:graphicData uri="http://schemas.openxmlformats.org/drawingml/2006/table">
            <a:tbl>
              <a:tblPr/>
              <a:tblGrid>
                <a:gridCol w="990720"/>
                <a:gridCol w="361800"/>
                <a:gridCol w="400320"/>
                <a:gridCol w="457200"/>
                <a:gridCol w="649080"/>
                <a:gridCol w="468360"/>
                <a:gridCol w="469800"/>
                <a:gridCol w="468360"/>
                <a:gridCol w="687600"/>
                <a:gridCol w="609480"/>
                <a:gridCol w="533520"/>
                <a:gridCol w="609480"/>
                <a:gridCol w="68580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o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i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rg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r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w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838080" y="1371600"/>
            <a:ext cx="7391520" cy="441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838080" y="485640"/>
          <a:ext cx="7391520" cy="5305680"/>
        </p:xfrm>
        <a:graphic>
          <a:graphicData uri="http://schemas.openxmlformats.org/drawingml/2006/table">
            <a:tbl>
              <a:tblPr/>
              <a:tblGrid>
                <a:gridCol w="990720"/>
                <a:gridCol w="361800"/>
                <a:gridCol w="400320"/>
                <a:gridCol w="457200"/>
                <a:gridCol w="649080"/>
                <a:gridCol w="468360"/>
                <a:gridCol w="469800"/>
                <a:gridCol w="468360"/>
                <a:gridCol w="687600"/>
                <a:gridCol w="609480"/>
                <a:gridCol w="533520"/>
                <a:gridCol w="609480"/>
                <a:gridCol w="68580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o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i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rg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r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w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"/>
          <p:cNvSpPr/>
          <p:nvPr/>
        </p:nvSpPr>
        <p:spPr>
          <a:xfrm>
            <a:off x="838080" y="1752480"/>
            <a:ext cx="7391520" cy="403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838080" y="485640"/>
          <a:ext cx="7391520" cy="5305680"/>
        </p:xfrm>
        <a:graphic>
          <a:graphicData uri="http://schemas.openxmlformats.org/drawingml/2006/table">
            <a:tbl>
              <a:tblPr/>
              <a:tblGrid>
                <a:gridCol w="990720"/>
                <a:gridCol w="361800"/>
                <a:gridCol w="400320"/>
                <a:gridCol w="457200"/>
                <a:gridCol w="649080"/>
                <a:gridCol w="468360"/>
                <a:gridCol w="469800"/>
                <a:gridCol w="468360"/>
                <a:gridCol w="687600"/>
                <a:gridCol w="609480"/>
                <a:gridCol w="533520"/>
                <a:gridCol w="609480"/>
                <a:gridCol w="68580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o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i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rg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r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w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"/>
          <p:cNvSpPr/>
          <p:nvPr/>
        </p:nvSpPr>
        <p:spPr>
          <a:xfrm>
            <a:off x="838080" y="2133720"/>
            <a:ext cx="73915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"/>
          <p:cNvGraphicFramePr/>
          <p:nvPr/>
        </p:nvGraphicFramePr>
        <p:xfrm>
          <a:off x="838080" y="485640"/>
          <a:ext cx="7391520" cy="5305680"/>
        </p:xfrm>
        <a:graphic>
          <a:graphicData uri="http://schemas.openxmlformats.org/drawingml/2006/table">
            <a:tbl>
              <a:tblPr/>
              <a:tblGrid>
                <a:gridCol w="990720"/>
                <a:gridCol w="361800"/>
                <a:gridCol w="400320"/>
                <a:gridCol w="457200"/>
                <a:gridCol w="649080"/>
                <a:gridCol w="468360"/>
                <a:gridCol w="469800"/>
                <a:gridCol w="468360"/>
                <a:gridCol w="687600"/>
                <a:gridCol w="609480"/>
                <a:gridCol w="533520"/>
                <a:gridCol w="609480"/>
                <a:gridCol w="68580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o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i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rg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r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w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9" name=""/>
          <p:cNvSpPr/>
          <p:nvPr/>
        </p:nvSpPr>
        <p:spPr>
          <a:xfrm>
            <a:off x="838080" y="2514600"/>
            <a:ext cx="7391520" cy="32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0" name=""/>
          <p:cNvGraphicFramePr/>
          <p:nvPr/>
        </p:nvGraphicFramePr>
        <p:xfrm>
          <a:off x="838080" y="485640"/>
          <a:ext cx="7391520" cy="5305680"/>
        </p:xfrm>
        <a:graphic>
          <a:graphicData uri="http://schemas.openxmlformats.org/drawingml/2006/table">
            <a:tbl>
              <a:tblPr/>
              <a:tblGrid>
                <a:gridCol w="990720"/>
                <a:gridCol w="361800"/>
                <a:gridCol w="400320"/>
                <a:gridCol w="457200"/>
                <a:gridCol w="649080"/>
                <a:gridCol w="468360"/>
                <a:gridCol w="469800"/>
                <a:gridCol w="468360"/>
                <a:gridCol w="687600"/>
                <a:gridCol w="609480"/>
                <a:gridCol w="533520"/>
                <a:gridCol w="609480"/>
                <a:gridCol w="68580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o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i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rg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r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w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1" name=""/>
          <p:cNvSpPr/>
          <p:nvPr/>
        </p:nvSpPr>
        <p:spPr>
          <a:xfrm>
            <a:off x="838080" y="2819520"/>
            <a:ext cx="739152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2" name=""/>
          <p:cNvGraphicFramePr/>
          <p:nvPr/>
        </p:nvGraphicFramePr>
        <p:xfrm>
          <a:off x="838080" y="485640"/>
          <a:ext cx="7391520" cy="5305680"/>
        </p:xfrm>
        <a:graphic>
          <a:graphicData uri="http://schemas.openxmlformats.org/drawingml/2006/table">
            <a:tbl>
              <a:tblPr/>
              <a:tblGrid>
                <a:gridCol w="990720"/>
                <a:gridCol w="361800"/>
                <a:gridCol w="400320"/>
                <a:gridCol w="457200"/>
                <a:gridCol w="649080"/>
                <a:gridCol w="468360"/>
                <a:gridCol w="469800"/>
                <a:gridCol w="468360"/>
                <a:gridCol w="687600"/>
                <a:gridCol w="609480"/>
                <a:gridCol w="533520"/>
                <a:gridCol w="609480"/>
                <a:gridCol w="68580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o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i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rg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r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w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3" name=""/>
          <p:cNvSpPr/>
          <p:nvPr/>
        </p:nvSpPr>
        <p:spPr>
          <a:xfrm>
            <a:off x="838080" y="3200400"/>
            <a:ext cx="739152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838080" y="485640"/>
          <a:ext cx="7391520" cy="5305680"/>
        </p:xfrm>
        <a:graphic>
          <a:graphicData uri="http://schemas.openxmlformats.org/drawingml/2006/table">
            <a:tbl>
              <a:tblPr/>
              <a:tblGrid>
                <a:gridCol w="990720"/>
                <a:gridCol w="361800"/>
                <a:gridCol w="400320"/>
                <a:gridCol w="457200"/>
                <a:gridCol w="649080"/>
                <a:gridCol w="468360"/>
                <a:gridCol w="469800"/>
                <a:gridCol w="468360"/>
                <a:gridCol w="687600"/>
                <a:gridCol w="609480"/>
                <a:gridCol w="533520"/>
                <a:gridCol w="609480"/>
                <a:gridCol w="68580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o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i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rg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r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w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5" name=""/>
          <p:cNvSpPr/>
          <p:nvPr/>
        </p:nvSpPr>
        <p:spPr>
          <a:xfrm>
            <a:off x="838080" y="3581280"/>
            <a:ext cx="739152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838080" y="485640"/>
          <a:ext cx="7391520" cy="5305680"/>
        </p:xfrm>
        <a:graphic>
          <a:graphicData uri="http://schemas.openxmlformats.org/drawingml/2006/table">
            <a:tbl>
              <a:tblPr/>
              <a:tblGrid>
                <a:gridCol w="990720"/>
                <a:gridCol w="361800"/>
                <a:gridCol w="400320"/>
                <a:gridCol w="457200"/>
                <a:gridCol w="649080"/>
                <a:gridCol w="468360"/>
                <a:gridCol w="469800"/>
                <a:gridCol w="468360"/>
                <a:gridCol w="687600"/>
                <a:gridCol w="609480"/>
                <a:gridCol w="533520"/>
                <a:gridCol w="609480"/>
                <a:gridCol w="68580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o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i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rg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r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w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7" name=""/>
          <p:cNvSpPr/>
          <p:nvPr/>
        </p:nvSpPr>
        <p:spPr>
          <a:xfrm>
            <a:off x="838080" y="3962520"/>
            <a:ext cx="73915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"/>
          <p:cNvGraphicFramePr/>
          <p:nvPr/>
        </p:nvGraphicFramePr>
        <p:xfrm>
          <a:off x="838080" y="485640"/>
          <a:ext cx="7391520" cy="5635800"/>
        </p:xfrm>
        <a:graphic>
          <a:graphicData uri="http://schemas.openxmlformats.org/drawingml/2006/table">
            <a:tbl>
              <a:tblPr/>
              <a:tblGrid>
                <a:gridCol w="990720"/>
                <a:gridCol w="361800"/>
                <a:gridCol w="400320"/>
                <a:gridCol w="457200"/>
                <a:gridCol w="649080"/>
                <a:gridCol w="468360"/>
                <a:gridCol w="469800"/>
                <a:gridCol w="468360"/>
                <a:gridCol w="687600"/>
                <a:gridCol w="609480"/>
                <a:gridCol w="533520"/>
                <a:gridCol w="609480"/>
                <a:gridCol w="68580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o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i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rg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r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w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9" name=""/>
          <p:cNvSpPr/>
          <p:nvPr/>
        </p:nvSpPr>
        <p:spPr>
          <a:xfrm>
            <a:off x="838080" y="4343400"/>
            <a:ext cx="7391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48120" y="5181480"/>
            <a:ext cx="1238040" cy="4003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914400" y="4267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85480" indent="-285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reshol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ion func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a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tep fun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reshold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outputs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n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put is positi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0 otherwise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)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igmoid (or logistics functio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ctivation function (key advantage: differenti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)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ign function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 if input is positive, otherwise -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7162920" y="2514600"/>
            <a:ext cx="1771560" cy="17146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ation 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70280" y="6400800"/>
            <a:ext cx="5949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nging the bias weight 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,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s the threshold loc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2880" y="6019920"/>
            <a:ext cx="647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 functions have a threshold (either hard or soft) at ze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-228600" y="1795320"/>
            <a:ext cx="3505320" cy="2395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3124080" y="1905120"/>
            <a:ext cx="2971800" cy="227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0" name=""/>
          <p:cNvGraphicFramePr/>
          <p:nvPr/>
        </p:nvGraphicFramePr>
        <p:xfrm>
          <a:off x="838080" y="485640"/>
          <a:ext cx="7391520" cy="5394600"/>
        </p:xfrm>
        <a:graphic>
          <a:graphicData uri="http://schemas.openxmlformats.org/drawingml/2006/table">
            <a:tbl>
              <a:tblPr/>
              <a:tblGrid>
                <a:gridCol w="990720"/>
                <a:gridCol w="361800"/>
                <a:gridCol w="400320"/>
                <a:gridCol w="457200"/>
                <a:gridCol w="649080"/>
                <a:gridCol w="468360"/>
                <a:gridCol w="469800"/>
                <a:gridCol w="468360"/>
                <a:gridCol w="687600"/>
                <a:gridCol w="609480"/>
                <a:gridCol w="533520"/>
                <a:gridCol w="609480"/>
                <a:gridCol w="68580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o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i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rg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r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w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1" name=""/>
          <p:cNvSpPr/>
          <p:nvPr/>
        </p:nvSpPr>
        <p:spPr>
          <a:xfrm>
            <a:off x="838080" y="4724280"/>
            <a:ext cx="73915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838080" y="485640"/>
          <a:ext cx="7391520" cy="5394600"/>
        </p:xfrm>
        <a:graphic>
          <a:graphicData uri="http://schemas.openxmlformats.org/drawingml/2006/table">
            <a:tbl>
              <a:tblPr/>
              <a:tblGrid>
                <a:gridCol w="990720"/>
                <a:gridCol w="361800"/>
                <a:gridCol w="400320"/>
                <a:gridCol w="457200"/>
                <a:gridCol w="649080"/>
                <a:gridCol w="468360"/>
                <a:gridCol w="469800"/>
                <a:gridCol w="468360"/>
                <a:gridCol w="687600"/>
                <a:gridCol w="609480"/>
                <a:gridCol w="533520"/>
                <a:gridCol w="609480"/>
                <a:gridCol w="68580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o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i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rg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r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w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3" name=""/>
          <p:cNvSpPr/>
          <p:nvPr/>
        </p:nvSpPr>
        <p:spPr>
          <a:xfrm>
            <a:off x="838080" y="5105520"/>
            <a:ext cx="739152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4" name=""/>
          <p:cNvGraphicFramePr/>
          <p:nvPr/>
        </p:nvGraphicFramePr>
        <p:xfrm>
          <a:off x="838080" y="485640"/>
          <a:ext cx="7391520" cy="5394600"/>
        </p:xfrm>
        <a:graphic>
          <a:graphicData uri="http://schemas.openxmlformats.org/drawingml/2006/table">
            <a:tbl>
              <a:tblPr/>
              <a:tblGrid>
                <a:gridCol w="990720"/>
                <a:gridCol w="361800"/>
                <a:gridCol w="400320"/>
                <a:gridCol w="457200"/>
                <a:gridCol w="649080"/>
                <a:gridCol w="468360"/>
                <a:gridCol w="469800"/>
                <a:gridCol w="468360"/>
                <a:gridCol w="687600"/>
                <a:gridCol w="609480"/>
                <a:gridCol w="533520"/>
                <a:gridCol w="609480"/>
                <a:gridCol w="68580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o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i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rg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r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w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5" name=""/>
          <p:cNvSpPr/>
          <p:nvPr/>
        </p:nvSpPr>
        <p:spPr>
          <a:xfrm>
            <a:off x="838080" y="5486400"/>
            <a:ext cx="73915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6" name=""/>
          <p:cNvGraphicFramePr/>
          <p:nvPr/>
        </p:nvGraphicFramePr>
        <p:xfrm>
          <a:off x="838080" y="485640"/>
          <a:ext cx="7391520" cy="5394600"/>
        </p:xfrm>
        <a:graphic>
          <a:graphicData uri="http://schemas.openxmlformats.org/drawingml/2006/table">
            <a:tbl>
              <a:tblPr/>
              <a:tblGrid>
                <a:gridCol w="990720"/>
                <a:gridCol w="361800"/>
                <a:gridCol w="400320"/>
                <a:gridCol w="457200"/>
                <a:gridCol w="649080"/>
                <a:gridCol w="468360"/>
                <a:gridCol w="469800"/>
                <a:gridCol w="468360"/>
                <a:gridCol w="687600"/>
                <a:gridCol w="609480"/>
                <a:gridCol w="533520"/>
                <a:gridCol w="609480"/>
                <a:gridCol w="68580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o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i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rg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r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w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6091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shold perceptrons have some advantages , in parti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imple learning algorith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 fits 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threshold perceptr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linearly separable training s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Key idea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earn by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djusting weigh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reduce err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 training se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weights repeatedly (epochs) for each examp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’ll u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um of squared erro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e.g., used in linear regression), classical error 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rning is an optimization search problem in weight sp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of a learning rule for Perceptrons Minimizing Squared Erro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of a learning rule for Perceptrons Minimizing Squared Erro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S = {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: i = 1, 2, ..., m} be a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raining 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  (Note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vector of inputs, and y is the vector of the true outputs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 the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erceptron classifi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presented by the weight vect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1600200" y="4191120"/>
                <a:ext cx="500364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quare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rro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quared error for a single training example with inpu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true output y 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w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output of the perceptron on the example and y is the true output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use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radient desc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reduce the squared err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y calculating the partial derivatives of E with respect to each weigh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2286000" y="2438280"/>
            <a:ext cx="3809880" cy="6937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1523880" y="5029200"/>
            <a:ext cx="5953320" cy="10857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170280" y="6195960"/>
            <a:ext cx="827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g’(in) derivative of the activation function. For sigmoid g’=g(1-g). For threshold perceptron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ere g’(n) is undefined, the original perceptron rule simply omitted 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of a learning rule for Perceptrons Minimizing Squared Erro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dient descent algorithm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e want to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du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each weigh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hange weight in direction of steepest desc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uitiv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 = y –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x) posit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is too small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eights are increased for positive inputs and decreased for negative inpu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 = y –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x) neg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posi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1523880" y="3200400"/>
            <a:ext cx="3819600" cy="4572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5621040" y="308304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457200" y="1905120"/>
            <a:ext cx="2933640" cy="618840"/>
            <a:chOff x="457200" y="1905120"/>
            <a:chExt cx="2933640" cy="618840"/>
          </a:xfrm>
        </p:grpSpPr>
        <p:pic>
          <p:nvPicPr>
            <p:cNvPr id="411" name="" descr=""/>
            <p:cNvPicPr/>
            <p:nvPr/>
          </p:nvPicPr>
          <p:blipFill>
            <a:blip r:embed="rId2"/>
            <a:stretch/>
          </p:blipFill>
          <p:spPr>
            <a:xfrm>
              <a:off x="457200" y="1905120"/>
              <a:ext cx="6858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3"/>
            <a:stretch/>
          </p:blipFill>
          <p:spPr>
            <a:xfrm>
              <a:off x="1104840" y="2062080"/>
              <a:ext cx="2286000" cy="31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3" name=""/>
          <p:cNvSpPr/>
          <p:nvPr/>
        </p:nvSpPr>
        <p:spPr>
          <a:xfrm>
            <a:off x="5351760" y="3733920"/>
            <a:ext cx="2707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W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+ 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I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Er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le is intuitively correc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edy Searc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dient descent through weight spac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prising proof of converge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ight space has no local minim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enough examples, it will find the target functio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rovid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ot too lar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ceptron Learning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ui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dient descent in weight spa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5410440" cy="323676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732680" y="5756400"/>
            <a:ext cx="51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. M. Mitchell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chine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reshold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ation Function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1990440" cy="1752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-459720" y="3733920"/>
            <a:ext cx="283716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Gulim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edg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each with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  <a:ea typeface="Gulim"/>
              </a:rPr>
              <a:t>wei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(positive, negative,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change over tim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learn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743200" y="1828800"/>
                <a:ext cx="150804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971800" y="3962520"/>
            <a:ext cx="3048120" cy="24987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120560" y="6400800"/>
            <a:ext cx="788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63040" y="6400800"/>
            <a:ext cx="72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8001000" y="1066680"/>
            <a:ext cx="666720" cy="428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108240" y="2544840"/>
                <a:ext cx="384804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fining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w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get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259160" y="1828800"/>
                <a:ext cx="23860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304920" y="5562720"/>
            <a:ext cx="19047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reshold value associated with unit 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075120" y="3154320"/>
                <a:ext cx="394812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fining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w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get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97" name=""/>
          <p:cNvGrpSpPr/>
          <p:nvPr/>
        </p:nvGrpSpPr>
        <p:grpSpPr>
          <a:xfrm>
            <a:off x="6019920" y="4114800"/>
            <a:ext cx="2928960" cy="2257560"/>
            <a:chOff x="6019920" y="4114800"/>
            <a:chExt cx="2928960" cy="2257560"/>
          </a:xfrm>
        </p:grpSpPr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6019920" y="4114800"/>
              <a:ext cx="2928960" cy="225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5"/>
            <a:stretch/>
          </p:blipFill>
          <p:spPr>
            <a:xfrm>
              <a:off x="7334280" y="4114800"/>
              <a:ext cx="666720" cy="324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3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ceptron learning rul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880" indent="-38376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weights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(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... ,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88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880" indent="-38376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a training example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y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88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880" indent="-38376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n the perceptron with inpu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weight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obtain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88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880" indent="-38376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 the training rate (a user-set parameter)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8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8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8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8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8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880" indent="0"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880" indent="-38376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 to 2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8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8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8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8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8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8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8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8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1905120" y="2971800"/>
                <a:ext cx="318924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←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</m:e>
                      <m:e>
                        <m:sSub>
                          <m:e>
                            <m:r>
                              <m:t xml:space="preserve">Δ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g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21" name=""/>
          <p:cNvGrpSpPr/>
          <p:nvPr/>
        </p:nvGrpSpPr>
        <p:grpSpPr>
          <a:xfrm>
            <a:off x="7010280" y="1447920"/>
            <a:ext cx="1066680" cy="5638680"/>
            <a:chOff x="7010280" y="1447920"/>
            <a:chExt cx="1066680" cy="5638680"/>
          </a:xfrm>
        </p:grpSpPr>
        <p:sp>
          <p:nvSpPr>
            <p:cNvPr id="422" name=""/>
            <p:cNvSpPr/>
            <p:nvPr/>
          </p:nvSpPr>
          <p:spPr>
            <a:xfrm rot="5400000">
              <a:off x="5027400" y="4037400"/>
              <a:ext cx="563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poch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cycle through the examp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10280" y="1524240"/>
              <a:ext cx="380880" cy="3657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838080" y="615636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ochastic gradient metho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lects examples randomly from the training set rather than cycling through th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52280" y="54100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poch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e repeated  until some stopping criterion is reached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ically, that the weight changes have become very sm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190200" y="304920"/>
            <a:ext cx="2707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W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+ 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I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Er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ceptron Learning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dient Descent Learning Algorithm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7894800" cy="40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371600" y="2895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pressiveness of Percep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pressiveness of Perceptr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287720" y="1981080"/>
            <a:ext cx="64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at hypothesis space can a perceptron repres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371600" y="4724280"/>
            <a:ext cx="717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more complex Booelan functions such as majority function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439280" y="5943600"/>
            <a:ext cx="66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can it represent any arbitrary Boolean functio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2209680" y="2590920"/>
            <a:ext cx="4729320" cy="144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pressiveness of Perceptr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295280" y="1981080"/>
            <a:ext cx="769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reshold perceptr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turns 1 iff the weighted sum of its inputs (including the bias) is positive, i.e.,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, iff the input is on one side of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yperplane it defi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3276720" y="3200400"/>
            <a:ext cx="2809800" cy="58104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1219320" y="51055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discriminant function or linear decision surfac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ights determine slope and bias determines off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07960" y="4419720"/>
            <a:ext cx="40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ptr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inear Sepa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14600" y="228600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25840" y="46134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89000" y="21337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643200" y="24033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268520" y="30481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430440" y="30481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268520" y="23623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795480" y="25560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057400" y="3962520"/>
            <a:ext cx="152280" cy="1522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828800" y="4419720"/>
            <a:ext cx="152280" cy="1522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057400" y="5105520"/>
            <a:ext cx="152280" cy="1522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362320" y="3809880"/>
            <a:ext cx="152280" cy="1526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514600" y="4343400"/>
            <a:ext cx="152280" cy="1522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971800" y="4038480"/>
            <a:ext cx="152280" cy="1526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133720" y="3352680"/>
            <a:ext cx="152280" cy="1526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50532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497120" y="35812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438280" y="2514600"/>
            <a:ext cx="2057400" cy="259092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6095880" y="4419720"/>
                <a:ext cx="2805120" cy="18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2" name=""/>
          <p:cNvSpPr/>
          <p:nvPr/>
        </p:nvSpPr>
        <p:spPr>
          <a:xfrm>
            <a:off x="5410080" y="2743200"/>
            <a:ext cx="38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view trained networ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defining a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“separation line”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near Separabilit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28480" y="6019920"/>
            <a:ext cx="43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Percepton used for classifi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04920" y="1828800"/>
            <a:ext cx="547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example with two inputs, x1, x2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635440" y="3886200"/>
            <a:ext cx="282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its equatio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near Separabilit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3200400" y="2438280"/>
            <a:ext cx="2438280" cy="2438280"/>
            <a:chOff x="3200400" y="2438280"/>
            <a:chExt cx="2438280" cy="2438280"/>
          </a:xfrm>
        </p:grpSpPr>
        <p:sp>
          <p:nvSpPr>
            <p:cNvPr id="469" name=""/>
            <p:cNvSpPr/>
            <p:nvPr/>
          </p:nvSpPr>
          <p:spPr>
            <a:xfrm>
              <a:off x="3352680" y="2590560"/>
              <a:ext cx="2133720" cy="2133720"/>
            </a:xfrm>
            <a:custGeom>
              <a:avLst/>
              <a:gdLst/>
              <a:ahLst/>
              <a:rect l="l" t="t" r="r" b="b"/>
              <a:pathLst>
                <a:path w="1344" h="1344">
                  <a:moveTo>
                    <a:pt x="0" y="0"/>
                  </a:moveTo>
                  <a:lnTo>
                    <a:pt x="1344" y="0"/>
                  </a:lnTo>
                  <a:lnTo>
                    <a:pt x="1344" y="13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0800000">
              <a:off x="3352320" y="2590200"/>
              <a:ext cx="2133720" cy="2133720"/>
            </a:xfrm>
            <a:custGeom>
              <a:avLst/>
              <a:gdLst/>
              <a:ahLst/>
              <a:rect l="l" t="t" r="r" b="b"/>
              <a:pathLst>
                <a:path w="1344" h="1344">
                  <a:moveTo>
                    <a:pt x="0" y="0"/>
                  </a:moveTo>
                  <a:lnTo>
                    <a:pt x="1344" y="0"/>
                  </a:lnTo>
                  <a:lnTo>
                    <a:pt x="1344" y="13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c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200400" y="2438280"/>
              <a:ext cx="2438280" cy="243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5646960" y="37339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894480" y="20574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038480" y="4038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4038480" y="2437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3886200" y="2590920"/>
            <a:ext cx="1600200" cy="1600200"/>
            <a:chOff x="3886200" y="2590920"/>
            <a:chExt cx="1600200" cy="1600200"/>
          </a:xfrm>
        </p:grpSpPr>
        <p:sp>
          <p:nvSpPr>
            <p:cNvPr id="477" name=""/>
            <p:cNvSpPr/>
            <p:nvPr/>
          </p:nvSpPr>
          <p:spPr>
            <a:xfrm>
              <a:off x="5181480" y="3886560"/>
              <a:ext cx="30492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86200" y="3886560"/>
              <a:ext cx="30456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886200" y="2590920"/>
              <a:ext cx="30456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181480" y="2590920"/>
              <a:ext cx="30492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06040" y="301320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 txBox="1"/>
          <p:nvPr/>
        </p:nvSpPr>
        <p:spPr>
          <a:xfrm>
            <a:off x="4433760" y="2889360"/>
            <a:ext cx="276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5" dur="10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7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"/>
          <p:cNvGrpSpPr/>
          <p:nvPr/>
        </p:nvGrpSpPr>
        <p:grpSpPr>
          <a:xfrm>
            <a:off x="3505320" y="2286000"/>
            <a:ext cx="2438280" cy="2438280"/>
            <a:chOff x="3505320" y="2286000"/>
            <a:chExt cx="2438280" cy="2438280"/>
          </a:xfrm>
        </p:grpSpPr>
        <p:sp>
          <p:nvSpPr>
            <p:cNvPr id="484" name=""/>
            <p:cNvSpPr/>
            <p:nvPr/>
          </p:nvSpPr>
          <p:spPr>
            <a:xfrm>
              <a:off x="3657600" y="2438280"/>
              <a:ext cx="2133720" cy="2133720"/>
            </a:xfrm>
            <a:custGeom>
              <a:avLst/>
              <a:gdLst/>
              <a:ahLst/>
              <a:rect l="l" t="t" r="r" b="b"/>
              <a:pathLst>
                <a:path w="1344" h="1344">
                  <a:moveTo>
                    <a:pt x="0" y="0"/>
                  </a:moveTo>
                  <a:lnTo>
                    <a:pt x="1344" y="0"/>
                  </a:lnTo>
                  <a:lnTo>
                    <a:pt x="1344" y="13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10800000">
              <a:off x="3657240" y="2437920"/>
              <a:ext cx="2133720" cy="2133720"/>
            </a:xfrm>
            <a:custGeom>
              <a:avLst/>
              <a:gdLst/>
              <a:ahLst/>
              <a:rect l="l" t="t" r="r" b="b"/>
              <a:pathLst>
                <a:path w="1344" h="1344">
                  <a:moveTo>
                    <a:pt x="0" y="0"/>
                  </a:moveTo>
                  <a:lnTo>
                    <a:pt x="1344" y="0"/>
                  </a:lnTo>
                  <a:lnTo>
                    <a:pt x="1344" y="13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c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505320" y="2286000"/>
              <a:ext cx="2438280" cy="243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near Separabilit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799600" y="39625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665880" y="18288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09880" y="42670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809880" y="22093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952880" y="4114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657600" y="4114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657600" y="28195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952880" y="281952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042080" y="350532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433760" y="2889360"/>
            <a:ext cx="276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2" dur="10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4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near Separabilit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799600" y="39625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665880" y="18288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809880" y="42670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3809880" y="22093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4114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657600" y="4114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657600" y="281952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952880" y="28195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118040" y="33526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433760" y="2889360"/>
            <a:ext cx="276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near Separabilit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799600" y="39625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665880" y="18288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809880" y="42670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3809880" y="22093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952880" y="4114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657600" y="4114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657600" y="281952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952880" y="28195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118040" y="33526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124080" y="2438280"/>
            <a:ext cx="3353040" cy="2743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3505320" y="2286000"/>
            <a:ext cx="2286000" cy="312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447920" y="5486400"/>
            <a:ext cx="7772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sky &amp; Papert (1969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ad News: Perceptrons can only represent linearly separable fun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52280" y="2286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5848200" y="2403360"/>
            <a:ext cx="28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linearly sepa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038480" y="5029200"/>
                <a:ext cx="156708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&gt;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lementing Boolean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82760" y="2414520"/>
            <a:ext cx="669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ts with a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reshold activation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ct as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ogic ga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we can use these uni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ompute   Boolean function of its inpu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505320" y="4267080"/>
            <a:ext cx="2514600" cy="1600200"/>
            <a:chOff x="3505320" y="4267080"/>
            <a:chExt cx="2514600" cy="1600200"/>
          </a:xfrm>
        </p:grpSpPr>
        <p:sp>
          <p:nvSpPr>
            <p:cNvPr id="104" name=""/>
            <p:cNvSpPr/>
            <p:nvPr/>
          </p:nvSpPr>
          <p:spPr>
            <a:xfrm>
              <a:off x="3505320" y="4343040"/>
              <a:ext cx="2514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ctivation of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threshold unit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when: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05320" y="4267080"/>
              <a:ext cx="2514600" cy="160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60912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a threshold perceptron for the logical XOR function (two inputs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r examples 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near Separability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O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3191040" y="2438280"/>
                <a:ext cx="169704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8" name=""/>
          <p:cNvSpPr/>
          <p:nvPr/>
        </p:nvSpPr>
        <p:spPr>
          <a:xfrm>
            <a:off x="3575160" y="3276720"/>
            <a:ext cx="5359320" cy="31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iven our examples, we have the following inequalit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the perceptr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(1) 0 + 0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(2) 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0 &gt; 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(3) 0 + w2 &gt; 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(4) w1 + w2 ≤ 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391520" y="4419720"/>
            <a:ext cx="1617120" cy="609480"/>
            <a:chOff x="7391520" y="4419720"/>
            <a:chExt cx="1617120" cy="609480"/>
          </a:xfrm>
        </p:grpSpPr>
        <p:sp>
          <p:nvSpPr>
            <p:cNvPr id="530" name=""/>
            <p:cNvSpPr/>
            <p:nvPr/>
          </p:nvSpPr>
          <p:spPr>
            <a:xfrm>
              <a:off x="7391520" y="4419720"/>
              <a:ext cx="76320" cy="60948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467120" y="4495680"/>
              <a:ext cx="154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1 + w2 &gt; 2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5257800" y="4267080"/>
            <a:ext cx="3412080" cy="1327680"/>
            <a:chOff x="5257800" y="4267080"/>
            <a:chExt cx="3412080" cy="1327680"/>
          </a:xfrm>
        </p:grpSpPr>
        <p:grpSp>
          <p:nvGrpSpPr>
            <p:cNvPr id="533" name=""/>
            <p:cNvGrpSpPr/>
            <p:nvPr/>
          </p:nvGrpSpPr>
          <p:grpSpPr>
            <a:xfrm>
              <a:off x="5257800" y="4876920"/>
              <a:ext cx="3412080" cy="717840"/>
              <a:chOff x="5257800" y="4876920"/>
              <a:chExt cx="3412080" cy="717840"/>
            </a:xfrm>
          </p:grpSpPr>
          <p:sp>
            <p:nvSpPr>
              <p:cNvPr id="534" name=""/>
              <p:cNvSpPr/>
              <p:nvPr/>
            </p:nvSpPr>
            <p:spPr>
              <a:xfrm>
                <a:off x="5257800" y="5257800"/>
                <a:ext cx="1676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>
                <a:off x="7086240" y="4876920"/>
                <a:ext cx="7621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144920" y="5195880"/>
                <a:ext cx="1524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contradic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7010280" y="4267080"/>
              <a:ext cx="457200" cy="990720"/>
            </a:xfrm>
            <a:custGeom>
              <a:avLst/>
              <a:gdLst/>
              <a:ahLst/>
              <a:rect l="l" t="t" r="r" b="b"/>
              <a:pathLst>
                <a:path w="360" h="720">
                  <a:moveTo>
                    <a:pt x="144" y="0"/>
                  </a:moveTo>
                  <a:cubicBezTo>
                    <a:pt x="252" y="12"/>
                    <a:pt x="360" y="24"/>
                    <a:pt x="336" y="144"/>
                  </a:cubicBezTo>
                  <a:cubicBezTo>
                    <a:pt x="312" y="264"/>
                    <a:pt x="156" y="492"/>
                    <a:pt x="0" y="7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2572560" y="5832360"/>
            <a:ext cx="42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, XOR is not linearly sepa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vergence of Perceptro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arning Algorith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066680" y="297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 dat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inearly separ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siz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fficiently sm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“hidden” 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58880" y="2133720"/>
            <a:ext cx="680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ceptron converges to a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sistent func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if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5638680" cy="413856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1744560" y="5791320"/>
            <a:ext cx="545832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ptron learns majority function easil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L is 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371600" y="609480"/>
            <a:ext cx="6019920" cy="447048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2280600" y="5334120"/>
            <a:ext cx="481968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L learns restaurant function easil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ptron cannot represen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895480" y="3962520"/>
            <a:ext cx="579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ood new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Adding hidden layer allows more target functions to be represen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228600" y="28195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608760" y="5638680"/>
            <a:ext cx="31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sky &amp; Papert (196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60680" y="304560"/>
            <a:ext cx="627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olean AN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447920" y="2286000"/>
          <a:ext cx="2514600" cy="27097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</a:tblGrid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x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x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pu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 flipH="1">
            <a:off x="6781680" y="44956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251460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791320" y="3048120"/>
            <a:ext cx="1143000" cy="1447200"/>
            <a:chOff x="5791320" y="3048120"/>
            <a:chExt cx="1143000" cy="1447200"/>
          </a:xfrm>
        </p:grpSpPr>
        <p:sp>
          <p:nvSpPr>
            <p:cNvPr id="111" name=""/>
            <p:cNvSpPr/>
            <p:nvPr/>
          </p:nvSpPr>
          <p:spPr>
            <a:xfrm flipH="1" flipV="1">
              <a:off x="6477120" y="3048120"/>
              <a:ext cx="457200" cy="144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5791320" y="3048120"/>
              <a:ext cx="457200" cy="144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5410080" y="44956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86360" y="3733920"/>
            <a:ext cx="71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62480" y="3733920"/>
            <a:ext cx="71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4880" y="2825640"/>
            <a:ext cx="1087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.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800600" y="2895120"/>
            <a:ext cx="129528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97120" y="3505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828800" y="5943600"/>
                <a:ext cx="15667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&gt;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20" name=""/>
          <p:cNvGrpSpPr/>
          <p:nvPr/>
        </p:nvGrpSpPr>
        <p:grpSpPr>
          <a:xfrm>
            <a:off x="1371600" y="5105520"/>
            <a:ext cx="2514600" cy="1600200"/>
            <a:chOff x="1371600" y="5105520"/>
            <a:chExt cx="2514600" cy="1600200"/>
          </a:xfrm>
        </p:grpSpPr>
        <p:sp>
          <p:nvSpPr>
            <p:cNvPr id="121" name=""/>
            <p:cNvSpPr/>
            <p:nvPr/>
          </p:nvSpPr>
          <p:spPr>
            <a:xfrm>
              <a:off x="1371600" y="5181480"/>
              <a:ext cx="2514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ctivation of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reshold units when: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71600" y="5105520"/>
              <a:ext cx="2514600" cy="160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60680" y="304560"/>
            <a:ext cx="627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olean O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447920" y="2286000"/>
          <a:ext cx="2514600" cy="27097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</a:tblGrid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x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x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pu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 flipH="1">
            <a:off x="6781680" y="44956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5880" y="251460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6477120" y="3047760"/>
            <a:ext cx="45720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791320" y="3047760"/>
            <a:ext cx="45720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10080" y="44956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86360" y="3733920"/>
            <a:ext cx="71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62480" y="3733920"/>
            <a:ext cx="71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5960" y="2825640"/>
            <a:ext cx="966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800600" y="2895120"/>
            <a:ext cx="129528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97120" y="3505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905120" y="5943600"/>
                <a:ext cx="15667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&gt;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36" name=""/>
          <p:cNvGrpSpPr/>
          <p:nvPr/>
        </p:nvGrpSpPr>
        <p:grpSpPr>
          <a:xfrm>
            <a:off x="1447920" y="5105520"/>
            <a:ext cx="2514600" cy="1600200"/>
            <a:chOff x="1447920" y="5105520"/>
            <a:chExt cx="2514600" cy="1600200"/>
          </a:xfrm>
        </p:grpSpPr>
        <p:sp>
          <p:nvSpPr>
            <p:cNvPr id="137" name=""/>
            <p:cNvSpPr/>
            <p:nvPr/>
          </p:nvSpPr>
          <p:spPr>
            <a:xfrm>
              <a:off x="1447920" y="5181480"/>
              <a:ext cx="2514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ctivation of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reshold units when: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47920" y="5105520"/>
              <a:ext cx="2514600" cy="160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84360" y="304560"/>
            <a:ext cx="635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vert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447920" y="2286000"/>
          <a:ext cx="1752480" cy="1674720"/>
        </p:xfrm>
        <a:graphic>
          <a:graphicData uri="http://schemas.openxmlformats.org/drawingml/2006/table">
            <a:tbl>
              <a:tblPr/>
              <a:tblGrid>
                <a:gridCol w="849240"/>
                <a:gridCol w="903240"/>
              </a:tblGrid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x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095880" y="251460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6324480" y="30481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5880" y="44197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497120" y="2819520"/>
            <a:ext cx="2795760" cy="1272240"/>
            <a:chOff x="4497120" y="2819520"/>
            <a:chExt cx="2795760" cy="1272240"/>
          </a:xfrm>
        </p:grpSpPr>
        <p:sp>
          <p:nvSpPr>
            <p:cNvPr id="145" name=""/>
            <p:cNvSpPr/>
            <p:nvPr/>
          </p:nvSpPr>
          <p:spPr>
            <a:xfrm>
              <a:off x="6432480" y="3651120"/>
              <a:ext cx="860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800600" y="2895120"/>
              <a:ext cx="12952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97120" y="35053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51560" y="2819520"/>
              <a:ext cx="1052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 -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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523880" y="5486400"/>
                <a:ext cx="156708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&gt;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50" name=""/>
          <p:cNvGrpSpPr/>
          <p:nvPr/>
        </p:nvGrpSpPr>
        <p:grpSpPr>
          <a:xfrm>
            <a:off x="1066680" y="4648320"/>
            <a:ext cx="2514600" cy="1600200"/>
            <a:chOff x="1066680" y="4648320"/>
            <a:chExt cx="2514600" cy="1600200"/>
          </a:xfrm>
        </p:grpSpPr>
        <p:sp>
          <p:nvSpPr>
            <p:cNvPr id="151" name=""/>
            <p:cNvSpPr/>
            <p:nvPr/>
          </p:nvSpPr>
          <p:spPr>
            <a:xfrm>
              <a:off x="1066680" y="4724280"/>
              <a:ext cx="2514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ctivation of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reshold units when: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66680" y="4648320"/>
              <a:ext cx="2514600" cy="160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4091400" y="544824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, units with a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hreshold activation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act as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logic gat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given the appropriate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nput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bias weigh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oran Šuković</cp:lastModifiedBy>
  <dcterms:modified xsi:type="dcterms:W3CDTF">2016-01-09T09:23:59Z</dcterms:modified>
  <cp:revision>1082</cp:revision>
  <dc:subject/>
  <dc:title>PowerPoint Presentation</dc:title>
</cp:coreProperties>
</file>