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91186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188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51360" cy="3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5165640" y="-360"/>
            <a:ext cx="3951360" cy="3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2825280" y="520560"/>
            <a:ext cx="3467160" cy="260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0800" y="3293640"/>
            <a:ext cx="7296120" cy="31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0" y="6586200"/>
            <a:ext cx="395136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5165640" y="6586200"/>
            <a:ext cx="395136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5901-12CF-4D95-9E99-881EA4A57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5165640" y="6586560"/>
            <a:ext cx="395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F431-DF34-4D36-91A9-D11414746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2825640" y="520560"/>
            <a:ext cx="3467160" cy="26006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0800" y="3293640"/>
            <a:ext cx="729612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5165640" y="6586560"/>
            <a:ext cx="395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0359-26FF-4BFE-8711-B0B3318C3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2825640" y="520560"/>
            <a:ext cx="3467160" cy="26006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0800" y="3293640"/>
            <a:ext cx="729612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5165640" y="6586560"/>
            <a:ext cx="395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84CF-1A49-4476-9ACD-8EE44A4DC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2825640" y="520560"/>
            <a:ext cx="3467160" cy="26006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0800" y="3293640"/>
            <a:ext cx="729612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2825640" y="520560"/>
            <a:ext cx="3467160" cy="26006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0800" y="3293640"/>
            <a:ext cx="729612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5165640" y="6586560"/>
            <a:ext cx="395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57D1-E87E-46BB-AD86-AB8939195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5165640" y="6586560"/>
            <a:ext cx="395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DAE2-FD74-4F83-AD9D-1FF01F039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2825640" y="520560"/>
            <a:ext cx="3467160" cy="26006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0800" y="3293640"/>
            <a:ext cx="729612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2825640" y="520560"/>
            <a:ext cx="3467160" cy="26006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0800" y="3293640"/>
            <a:ext cx="729612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5165640" y="6586560"/>
            <a:ext cx="395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88CB-622C-4908-93F4-748DC6C6F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2825640" y="520560"/>
            <a:ext cx="3467160" cy="260064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0800" y="3293640"/>
            <a:ext cx="729612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5165640" y="6586560"/>
            <a:ext cx="395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D265-33E7-43A6-BCD4-C7C970F73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5165640" y="6586560"/>
            <a:ext cx="395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4398-7F45-429F-AA1E-0988BD9AF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2825640" y="520560"/>
            <a:ext cx="3467160" cy="26006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0800" y="3293640"/>
            <a:ext cx="729612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B6D-3197-421C-8652-3DEE268E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B0A-CBB0-4E94-829A-71873163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FDD-FF09-4404-A63B-67D7FB52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BD69-1E72-4C8D-B2B4-D82F1343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119-BB46-4E42-B72D-7EF74D8C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F56-3A16-4DC5-AD83-8F927301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2D1-CA52-4362-A543-4A478C69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299-AAFE-4F24-AEF0-7D730C29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21F-CC32-4ED1-AF51-BD8477CA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5E1-B1D2-440F-B451-2F2930E0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824-7D3C-4515-AFD6-F0A4DDEC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D89-D088-4174-B214-B4FC253A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border"/>
          <p:cNvPicPr/>
          <p:nvPr/>
        </p:nvPicPr>
        <p:blipFill>
          <a:blip r:embed="rId2"/>
          <a:stretch/>
        </p:blipFill>
        <p:spPr>
          <a:xfrm>
            <a:off x="76320" y="152280"/>
            <a:ext cx="8991360" cy="6556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6"/>
          <p:cNvSpPr/>
          <p:nvPr/>
        </p:nvSpPr>
        <p:spPr>
          <a:xfrm>
            <a:off x="8077320" y="6526080"/>
            <a:ext cx="30456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3FE0-4596-4CB6-BE32-9876CEA8357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7"/>
          <p:cNvSpPr/>
          <p:nvPr/>
        </p:nvSpPr>
        <p:spPr>
          <a:xfrm>
            <a:off x="762120" y="6499080"/>
            <a:ext cx="21333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8"/>
          <p:cNvSpPr/>
          <p:nvPr/>
        </p:nvSpPr>
        <p:spPr>
          <a:xfrm>
            <a:off x="6477120" y="76320"/>
            <a:ext cx="1828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order"/>
          <p:cNvPicPr/>
          <p:nvPr/>
        </p:nvPicPr>
        <p:blipFill>
          <a:blip r:embed="rId2"/>
          <a:stretch/>
        </p:blipFill>
        <p:spPr>
          <a:xfrm>
            <a:off x="76320" y="152280"/>
            <a:ext cx="8991360" cy="6556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762120" y="6499080"/>
            <a:ext cx="21333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477120" y="76320"/>
            <a:ext cx="1828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62120" y="2209680"/>
            <a:ext cx="7770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371600" y="2971800"/>
            <a:ext cx="647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3" descr="seal1"/>
          <p:cNvPicPr/>
          <p:nvPr/>
        </p:nvPicPr>
        <p:blipFill>
          <a:blip r:embed="rId3"/>
          <a:stretch/>
        </p:blipFill>
        <p:spPr>
          <a:xfrm>
            <a:off x="4114800" y="5195880"/>
            <a:ext cx="985680" cy="976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4"/>
          <p:cNvSpPr/>
          <p:nvPr/>
        </p:nvSpPr>
        <p:spPr>
          <a:xfrm>
            <a:off x="2819520" y="3962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chine Learning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819520" y="42670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partment of Computer Sc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819520" y="45720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iversity of Texas at Aus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65530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A6F6-AA7E-4812-9470-8581B1212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pport Vector Machin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lajdovi su modifikovana verzija slajdova 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verziteta Teksas u Osti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ješavanje optimizacionog zadatk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3208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acij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vadratn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kcije uz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nearn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raniče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aj tip zadataka je dobro poznat u matematici i za rješavanje postoji više netrivijalnih algorit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ješavanje uključuje kreiranj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ualnog zadatka sa Lagrange-ovim koeficijenti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ženih svakom ograničenju iz polaznog zadat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085760" y="1533600"/>
            <a:ext cx="6438960" cy="1050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ć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b koji minimizira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z uslo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1276200" y="4816440"/>
            <a:ext cx="6438960" cy="15822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ći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oji maksimiziraj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z usl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ješenje zadatka optimizacij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o j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ješenje dualnog zadatka, tada je rješenje polaznog zadat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aki nenulti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cira da je odgovarajuć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pport vek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lasifikaciona funkcija je (obratite pažnju d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je dat eksplicitn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a zavisi o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kalarnog proizvod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-primjer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upport vektor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azmotrićemo ovo tvrđenje kasn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ješavanje optimizacionog zadatka zahtijeva i izračunavanje skalarnog proizvod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vih parova test-primjera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1276200" y="2184480"/>
            <a:ext cx="643896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a svako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276720" y="4076640"/>
            <a:ext cx="234288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 Margin klasifikacija 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Šta ako skup za obučavanje nije linearno separabil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odimo tzv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lack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je dopuštaju pogrešnu klasifikaciju teških primjera (ili šuma), pa se dobij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ft margi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4"/>
          <p:cNvSpPr/>
          <p:nvPr/>
        </p:nvSpPr>
        <p:spPr>
          <a:xfrm flipV="1">
            <a:off x="2530440" y="2787480"/>
            <a:ext cx="0" cy="304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5"/>
          <p:cNvSpPr/>
          <p:nvPr/>
        </p:nvSpPr>
        <p:spPr>
          <a:xfrm>
            <a:off x="2395440" y="5713560"/>
            <a:ext cx="408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3570120" y="354348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2995560" y="3900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3147840" y="4446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2766960" y="49039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10"/>
          <p:cNvSpPr/>
          <p:nvPr/>
        </p:nvSpPr>
        <p:spPr>
          <a:xfrm>
            <a:off x="3300480" y="3303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11"/>
          <p:cNvSpPr/>
          <p:nvPr/>
        </p:nvSpPr>
        <p:spPr>
          <a:xfrm>
            <a:off x="2766960" y="4218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12"/>
          <p:cNvSpPr/>
          <p:nvPr/>
        </p:nvSpPr>
        <p:spPr>
          <a:xfrm>
            <a:off x="2919240" y="43704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681360" y="3989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4583160" y="39765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4214880" y="4903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5205240" y="4903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3897360" y="5424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4519440" y="4294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3951360" y="47880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20"/>
          <p:cNvSpPr/>
          <p:nvPr/>
        </p:nvSpPr>
        <p:spPr>
          <a:xfrm>
            <a:off x="4595760" y="51325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21"/>
          <p:cNvSpPr/>
          <p:nvPr/>
        </p:nvSpPr>
        <p:spPr>
          <a:xfrm>
            <a:off x="5281560" y="42181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3767040" y="27050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4376880" y="2781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24"/>
          <p:cNvSpPr/>
          <p:nvPr/>
        </p:nvSpPr>
        <p:spPr>
          <a:xfrm>
            <a:off x="5443560" y="3543480"/>
            <a:ext cx="88920" cy="88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5"/>
          <p:cNvSpPr/>
          <p:nvPr/>
        </p:nvSpPr>
        <p:spPr>
          <a:xfrm>
            <a:off x="3255840" y="3987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26"/>
          <p:cNvSpPr/>
          <p:nvPr/>
        </p:nvSpPr>
        <p:spPr>
          <a:xfrm>
            <a:off x="2976480" y="469440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27"/>
          <p:cNvSpPr/>
          <p:nvPr/>
        </p:nvSpPr>
        <p:spPr>
          <a:xfrm>
            <a:off x="5165640" y="3773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28"/>
          <p:cNvSpPr/>
          <p:nvPr/>
        </p:nvSpPr>
        <p:spPr>
          <a:xfrm flipV="1">
            <a:off x="2995560" y="2704680"/>
            <a:ext cx="2143080" cy="288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29"/>
          <p:cNvSpPr/>
          <p:nvPr/>
        </p:nvSpPr>
        <p:spPr>
          <a:xfrm flipH="1" flipV="1">
            <a:off x="4330440" y="3809880"/>
            <a:ext cx="253800" cy="184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30"/>
          <p:cNvSpPr/>
          <p:nvPr/>
        </p:nvSpPr>
        <p:spPr>
          <a:xfrm>
            <a:off x="3606840" y="3924360"/>
            <a:ext cx="228600" cy="218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31"/>
          <p:cNvSpPr/>
          <p:nvPr/>
        </p:nvSpPr>
        <p:spPr>
          <a:xfrm>
            <a:off x="3879720" y="4719600"/>
            <a:ext cx="228600" cy="21924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32"/>
          <p:cNvSpPr/>
          <p:nvPr/>
        </p:nvSpPr>
        <p:spPr>
          <a:xfrm>
            <a:off x="4513320" y="3906720"/>
            <a:ext cx="228600" cy="219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33"/>
          <p:cNvSpPr/>
          <p:nvPr/>
        </p:nvSpPr>
        <p:spPr>
          <a:xfrm flipH="1" flipV="1">
            <a:off x="3706560" y="4624200"/>
            <a:ext cx="244440" cy="17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34"/>
          <p:cNvSpPr/>
          <p:nvPr/>
        </p:nvSpPr>
        <p:spPr>
          <a:xfrm flipH="1" flipV="1">
            <a:off x="3758760" y="4061880"/>
            <a:ext cx="235080" cy="1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35"/>
          <p:cNvSpPr/>
          <p:nvPr/>
        </p:nvSpPr>
        <p:spPr>
          <a:xfrm flipV="1">
            <a:off x="3433680" y="2885760"/>
            <a:ext cx="2009880" cy="269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36"/>
          <p:cNvSpPr/>
          <p:nvPr/>
        </p:nvSpPr>
        <p:spPr>
          <a:xfrm flipV="1">
            <a:off x="2786040" y="2523600"/>
            <a:ext cx="2067120" cy="277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37"/>
          <p:cNvSpPr/>
          <p:nvPr/>
        </p:nvSpPr>
        <p:spPr>
          <a:xfrm flipH="1" flipV="1">
            <a:off x="4325760" y="3208320"/>
            <a:ext cx="841680" cy="58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38"/>
          <p:cNvSpPr/>
          <p:nvPr/>
        </p:nvSpPr>
        <p:spPr>
          <a:xfrm>
            <a:off x="3336840" y="4064040"/>
            <a:ext cx="809640" cy="577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9"/>
          <p:cNvSpPr/>
          <p:nvPr/>
        </p:nvSpPr>
        <p:spPr>
          <a:xfrm>
            <a:off x="4789440" y="360360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0"/>
          <p:cNvSpPr/>
          <p:nvPr/>
        </p:nvSpPr>
        <p:spPr>
          <a:xfrm>
            <a:off x="3257640" y="406728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41"/>
          <p:cNvSpPr/>
          <p:nvPr/>
        </p:nvSpPr>
        <p:spPr>
          <a:xfrm>
            <a:off x="5092560" y="370836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42"/>
          <p:cNvSpPr/>
          <p:nvPr/>
        </p:nvSpPr>
        <p:spPr>
          <a:xfrm>
            <a:off x="3184560" y="3916440"/>
            <a:ext cx="228600" cy="2188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Line 30"/>
          <p:cNvSpPr/>
          <p:nvPr/>
        </p:nvSpPr>
        <p:spPr>
          <a:xfrm flipH="1" flipV="1">
            <a:off x="5619240" y="1760040"/>
            <a:ext cx="141480" cy="2266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31"/>
          <p:cNvSpPr/>
          <p:nvPr/>
        </p:nvSpPr>
        <p:spPr>
          <a:xfrm flipH="1" flipV="1">
            <a:off x="6762600" y="1684440"/>
            <a:ext cx="1526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81"/>
          <p:cNvSpPr/>
          <p:nvPr/>
        </p:nvSpPr>
        <p:spPr>
          <a:xfrm rot="21389400">
            <a:off x="6109560" y="398736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Straight Arrow Connector 85"/>
          <p:cNvCxnSpPr>
            <a:endCxn id="517" idx="0"/>
          </p:cNvCxnSpPr>
          <p:nvPr/>
        </p:nvCxnSpPr>
        <p:spPr>
          <a:xfrm flipV="1">
            <a:off x="5771880" y="3894120"/>
            <a:ext cx="1143720" cy="76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Slack promjenljiv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0867-1AB6-4DAD-9D89-59410AC1BC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6"/>
          <p:cNvSpPr/>
          <p:nvPr/>
        </p:nvSpPr>
        <p:spPr>
          <a:xfrm>
            <a:off x="4613400" y="3094200"/>
            <a:ext cx="166680" cy="177480"/>
          </a:xfrm>
          <a:custGeom>
            <a:avLst/>
            <a:gdLst>
              <a:gd name="textAreaLeft" fmla="*/ 51480 w 166680"/>
              <a:gd name="textAreaRight" fmla="*/ 115200 w 166680"/>
              <a:gd name="textAreaTop" fmla="*/ 67680 h 177480"/>
              <a:gd name="textAreaBottom" fmla="*/ 135720 h 17748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7"/>
          <p:cNvSpPr/>
          <p:nvPr/>
        </p:nvSpPr>
        <p:spPr>
          <a:xfrm>
            <a:off x="5418000" y="247500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8"/>
          <p:cNvSpPr/>
          <p:nvPr/>
        </p:nvSpPr>
        <p:spPr>
          <a:xfrm>
            <a:off x="4680000" y="23050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9"/>
          <p:cNvSpPr/>
          <p:nvPr/>
        </p:nvSpPr>
        <p:spPr>
          <a:xfrm>
            <a:off x="5284800" y="327816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10"/>
          <p:cNvSpPr/>
          <p:nvPr/>
        </p:nvSpPr>
        <p:spPr>
          <a:xfrm>
            <a:off x="4995720" y="191124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1"/>
          <p:cNvSpPr/>
          <p:nvPr/>
        </p:nvSpPr>
        <p:spPr>
          <a:xfrm>
            <a:off x="5619600" y="297972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13"/>
          <p:cNvSpPr/>
          <p:nvPr/>
        </p:nvSpPr>
        <p:spPr>
          <a:xfrm>
            <a:off x="5151600" y="28144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14"/>
          <p:cNvSpPr/>
          <p:nvPr/>
        </p:nvSpPr>
        <p:spPr>
          <a:xfrm>
            <a:off x="6762600" y="221760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5"/>
          <p:cNvSpPr/>
          <p:nvPr/>
        </p:nvSpPr>
        <p:spPr>
          <a:xfrm>
            <a:off x="7219800" y="198900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16"/>
          <p:cNvSpPr/>
          <p:nvPr/>
        </p:nvSpPr>
        <p:spPr>
          <a:xfrm>
            <a:off x="7143840" y="2827440"/>
            <a:ext cx="106200" cy="11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19"/>
          <p:cNvSpPr/>
          <p:nvPr/>
        </p:nvSpPr>
        <p:spPr>
          <a:xfrm>
            <a:off x="8029440" y="213660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21"/>
          <p:cNvSpPr/>
          <p:nvPr/>
        </p:nvSpPr>
        <p:spPr>
          <a:xfrm>
            <a:off x="7661160" y="2373480"/>
            <a:ext cx="106560" cy="11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22"/>
          <p:cNvSpPr/>
          <p:nvPr/>
        </p:nvSpPr>
        <p:spPr>
          <a:xfrm>
            <a:off x="6786720" y="2892600"/>
            <a:ext cx="106200" cy="11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27"/>
          <p:cNvSpPr/>
          <p:nvPr/>
        </p:nvSpPr>
        <p:spPr>
          <a:xfrm>
            <a:off x="7677000" y="297972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28"/>
          <p:cNvSpPr/>
          <p:nvPr/>
        </p:nvSpPr>
        <p:spPr>
          <a:xfrm>
            <a:off x="7380360" y="3220920"/>
            <a:ext cx="10620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32"/>
          <p:cNvSpPr/>
          <p:nvPr/>
        </p:nvSpPr>
        <p:spPr>
          <a:xfrm flipH="1" flipV="1">
            <a:off x="6171840" y="1636560"/>
            <a:ext cx="152280" cy="2291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37"/>
          <p:cNvSpPr/>
          <p:nvPr/>
        </p:nvSpPr>
        <p:spPr>
          <a:xfrm flipV="1">
            <a:off x="5757840" y="2123640"/>
            <a:ext cx="450720" cy="3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39"/>
          <p:cNvSpPr/>
          <p:nvPr/>
        </p:nvSpPr>
        <p:spPr>
          <a:xfrm flipV="1">
            <a:off x="6126120" y="3548160"/>
            <a:ext cx="177840" cy="23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36"/>
          <p:cNvSpPr/>
          <p:nvPr/>
        </p:nvSpPr>
        <p:spPr>
          <a:xfrm>
            <a:off x="5711760" y="211140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35"/>
          <p:cNvSpPr/>
          <p:nvPr/>
        </p:nvSpPr>
        <p:spPr>
          <a:xfrm>
            <a:off x="6072120" y="351468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39"/>
          <p:cNvSpPr/>
          <p:nvPr/>
        </p:nvSpPr>
        <p:spPr>
          <a:xfrm flipV="1">
            <a:off x="6271920" y="2912400"/>
            <a:ext cx="205200" cy="13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33"/>
          <p:cNvSpPr/>
          <p:nvPr/>
        </p:nvSpPr>
        <p:spPr>
          <a:xfrm>
            <a:off x="6381720" y="28018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5"/>
              <p:cNvSpPr txBox="1"/>
              <p:nvPr/>
            </p:nvSpPr>
            <p:spPr>
              <a:xfrm>
                <a:off x="1668600" y="2127240"/>
                <a:ext cx="1352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5" name="TextBox 118"/>
          <p:cNvSpPr/>
          <p:nvPr/>
        </p:nvSpPr>
        <p:spPr>
          <a:xfrm>
            <a:off x="7281360" y="290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19"/>
          <p:cNvSpPr/>
          <p:nvPr/>
        </p:nvSpPr>
        <p:spPr>
          <a:xfrm>
            <a:off x="5604840" y="268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Box 120"/>
          <p:cNvSpPr/>
          <p:nvPr/>
        </p:nvSpPr>
        <p:spPr>
          <a:xfrm rot="21448800">
            <a:off x="6159960" y="2447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21"/>
          <p:cNvSpPr/>
          <p:nvPr/>
        </p:nvSpPr>
        <p:spPr>
          <a:xfrm rot="21448800">
            <a:off x="5817960" y="3142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Box 122"/>
          <p:cNvSpPr/>
          <p:nvPr/>
        </p:nvSpPr>
        <p:spPr>
          <a:xfrm rot="21448800">
            <a:off x="5550480" y="1771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124"/>
          <p:cNvSpPr/>
          <p:nvPr/>
        </p:nvSpPr>
        <p:spPr>
          <a:xfrm>
            <a:off x="7586280" y="267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125"/>
          <p:cNvSpPr/>
          <p:nvPr/>
        </p:nvSpPr>
        <p:spPr>
          <a:xfrm>
            <a:off x="7547400" y="206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Box 126"/>
          <p:cNvSpPr/>
          <p:nvPr/>
        </p:nvSpPr>
        <p:spPr>
          <a:xfrm>
            <a:off x="7930080" y="18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127"/>
          <p:cNvSpPr/>
          <p:nvPr/>
        </p:nvSpPr>
        <p:spPr>
          <a:xfrm>
            <a:off x="7131240" y="1684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Box 128"/>
          <p:cNvSpPr/>
          <p:nvPr/>
        </p:nvSpPr>
        <p:spPr>
          <a:xfrm>
            <a:off x="6733080" y="192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129"/>
          <p:cNvSpPr/>
          <p:nvPr/>
        </p:nvSpPr>
        <p:spPr>
          <a:xfrm>
            <a:off x="6747840" y="259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30"/>
          <p:cNvSpPr/>
          <p:nvPr/>
        </p:nvSpPr>
        <p:spPr>
          <a:xfrm>
            <a:off x="7052760" y="252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31"/>
          <p:cNvSpPr/>
          <p:nvPr/>
        </p:nvSpPr>
        <p:spPr>
          <a:xfrm>
            <a:off x="4572000" y="275112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132"/>
          <p:cNvSpPr/>
          <p:nvPr/>
        </p:nvSpPr>
        <p:spPr>
          <a:xfrm>
            <a:off x="5223960" y="29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Box 133"/>
          <p:cNvSpPr/>
          <p:nvPr/>
        </p:nvSpPr>
        <p:spPr>
          <a:xfrm>
            <a:off x="5071680" y="252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134"/>
          <p:cNvSpPr/>
          <p:nvPr/>
        </p:nvSpPr>
        <p:spPr>
          <a:xfrm>
            <a:off x="5300280" y="214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Box 135"/>
          <p:cNvSpPr/>
          <p:nvPr/>
        </p:nvSpPr>
        <p:spPr>
          <a:xfrm>
            <a:off x="461448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Box 137"/>
          <p:cNvSpPr/>
          <p:nvPr/>
        </p:nvSpPr>
        <p:spPr>
          <a:xfrm>
            <a:off x="4919040" y="160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Parametar 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 kod soft-margin SV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64" name="Picture 7" descr=""/>
          <p:cNvPicPr/>
          <p:nvPr/>
        </p:nvPicPr>
        <p:blipFill>
          <a:blip r:embed="rId1"/>
          <a:stretch/>
        </p:blipFill>
        <p:spPr>
          <a:xfrm>
            <a:off x="304920" y="1320840"/>
            <a:ext cx="2057400" cy="2036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"/>
          <p:cNvPicPr/>
          <p:nvPr/>
        </p:nvPicPr>
        <p:blipFill>
          <a:blip r:embed="rId2"/>
          <a:stretch/>
        </p:blipFill>
        <p:spPr>
          <a:xfrm>
            <a:off x="2765520" y="1333440"/>
            <a:ext cx="2057400" cy="20448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" descr=""/>
          <p:cNvPicPr/>
          <p:nvPr/>
        </p:nvPicPr>
        <p:blipFill>
          <a:blip r:embed="rId3"/>
          <a:stretch/>
        </p:blipFill>
        <p:spPr>
          <a:xfrm>
            <a:off x="358920" y="3900600"/>
            <a:ext cx="2071440" cy="20653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0" descr=""/>
          <p:cNvPicPr/>
          <p:nvPr/>
        </p:nvPicPr>
        <p:blipFill>
          <a:blip r:embed="rId4"/>
          <a:stretch/>
        </p:blipFill>
        <p:spPr>
          <a:xfrm>
            <a:off x="2751120" y="39355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58"/>
          <p:cNvSpPr/>
          <p:nvPr/>
        </p:nvSpPr>
        <p:spPr>
          <a:xfrm>
            <a:off x="624240" y="33228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Box 59"/>
          <p:cNvSpPr/>
          <p:nvPr/>
        </p:nvSpPr>
        <p:spPr>
          <a:xfrm>
            <a:off x="3324240" y="33512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60"/>
          <p:cNvSpPr/>
          <p:nvPr/>
        </p:nvSpPr>
        <p:spPr>
          <a:xfrm>
            <a:off x="654120" y="59706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61"/>
          <p:cNvSpPr/>
          <p:nvPr/>
        </p:nvSpPr>
        <p:spPr>
          <a:xfrm>
            <a:off x="3215520" y="59976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63"/>
          <p:cNvSpPr/>
          <p:nvPr/>
        </p:nvSpPr>
        <p:spPr>
          <a:xfrm>
            <a:off x="4919760" y="1438200"/>
            <a:ext cx="4038480" cy="33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ada j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eoma veliko, soft-margin SVM je ekvivalentan sa hard-margin SVM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ada j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eoma malo, dopuštamo pogrešnu klasifikaciju u na račun vektora w sa malom normom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e bira tako da odgovara trenutnoj distribuciji podatak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 Margin Classification – matematik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a formulaci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cirana formulacija uključuje slack promjenlji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a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 koristi za kontrolaisanje overfitting-a:  predstavlja “balans” između relativne važnosti maksimiziranja margine i prilagođavanja skupu za obučavan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1085760" y="1927080"/>
            <a:ext cx="6438960" cy="1050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ć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b koji minimizira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z uslo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1085760" y="3890880"/>
            <a:ext cx="6438960" cy="119376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ć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b koji minimizira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z uslo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, 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 Margin Classification – rješenj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alni problem je isti kao i za separabilan slučaj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 bi bi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ti akose u osnovnom zadatku koristi  druga kazna za slack promjenljiv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potebni su dodatni Lagrange-ovi koeficijenti za slack promjenljiv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 nenultim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će support vekto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ješenje dualnog zadatka 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123920" y="2622600"/>
            <a:ext cx="6438960" cy="15822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ći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oji maksimiziraj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z uslo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 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444600" y="5235480"/>
            <a:ext cx="4816440" cy="11509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=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-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a svak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a koje  j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5715000" y="5810400"/>
            <a:ext cx="234324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5591160" y="4772160"/>
            <a:ext cx="33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je potrebno da znamo eksplicitn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a klasifikaciju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elinearne SV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V dobro radi na skupovima koji su linearo separabilni uza neki šum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Šta ako je skup “težak”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likamo skup u prostor veće dimezije (na slici ispod 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,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1676520" y="2314440"/>
            <a:ext cx="3962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5"/>
          <p:cNvSpPr/>
          <p:nvPr/>
        </p:nvSpPr>
        <p:spPr>
          <a:xfrm>
            <a:off x="211932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3486240" y="225756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3343320" y="231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8"/>
          <p:cNvSpPr/>
          <p:nvPr/>
        </p:nvSpPr>
        <p:spPr>
          <a:xfrm>
            <a:off x="2481120" y="2265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9"/>
          <p:cNvSpPr/>
          <p:nvPr/>
        </p:nvSpPr>
        <p:spPr>
          <a:xfrm>
            <a:off x="295740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10"/>
          <p:cNvSpPr/>
          <p:nvPr/>
        </p:nvSpPr>
        <p:spPr>
          <a:xfrm>
            <a:off x="316692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1"/>
          <p:cNvSpPr/>
          <p:nvPr/>
        </p:nvSpPr>
        <p:spPr>
          <a:xfrm>
            <a:off x="402444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12"/>
          <p:cNvSpPr/>
          <p:nvPr/>
        </p:nvSpPr>
        <p:spPr>
          <a:xfrm>
            <a:off x="425304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13"/>
          <p:cNvSpPr/>
          <p:nvPr/>
        </p:nvSpPr>
        <p:spPr>
          <a:xfrm>
            <a:off x="389088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>
            <a:off x="3600360" y="2066760"/>
            <a:ext cx="0" cy="55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15"/>
          <p:cNvSpPr/>
          <p:nvPr/>
        </p:nvSpPr>
        <p:spPr>
          <a:xfrm>
            <a:off x="3817800" y="2211480"/>
            <a:ext cx="228600" cy="218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16"/>
          <p:cNvSpPr/>
          <p:nvPr/>
        </p:nvSpPr>
        <p:spPr>
          <a:xfrm>
            <a:off x="3103560" y="220176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8"/>
          <p:cNvSpPr/>
          <p:nvPr/>
        </p:nvSpPr>
        <p:spPr>
          <a:xfrm flipH="1" flipV="1">
            <a:off x="3928680" y="2037960"/>
            <a:ext cx="9720" cy="598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9"/>
          <p:cNvSpPr/>
          <p:nvPr/>
        </p:nvSpPr>
        <p:spPr>
          <a:xfrm flipH="1" flipV="1">
            <a:off x="3214800" y="2037960"/>
            <a:ext cx="9360" cy="598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0"/>
          <p:cNvSpPr/>
          <p:nvPr/>
        </p:nvSpPr>
        <p:spPr>
          <a:xfrm>
            <a:off x="1676520" y="3743280"/>
            <a:ext cx="3962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21"/>
          <p:cNvSpPr/>
          <p:nvPr/>
        </p:nvSpPr>
        <p:spPr>
          <a:xfrm>
            <a:off x="21193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2"/>
          <p:cNvSpPr/>
          <p:nvPr/>
        </p:nvSpPr>
        <p:spPr>
          <a:xfrm>
            <a:off x="3486240" y="36860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23"/>
          <p:cNvSpPr/>
          <p:nvPr/>
        </p:nvSpPr>
        <p:spPr>
          <a:xfrm>
            <a:off x="3343320" y="374328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24"/>
          <p:cNvSpPr/>
          <p:nvPr/>
        </p:nvSpPr>
        <p:spPr>
          <a:xfrm>
            <a:off x="2481120" y="3693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25"/>
          <p:cNvSpPr/>
          <p:nvPr/>
        </p:nvSpPr>
        <p:spPr>
          <a:xfrm>
            <a:off x="295740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26"/>
          <p:cNvSpPr/>
          <p:nvPr/>
        </p:nvSpPr>
        <p:spPr>
          <a:xfrm>
            <a:off x="31669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27"/>
          <p:cNvSpPr/>
          <p:nvPr/>
        </p:nvSpPr>
        <p:spPr>
          <a:xfrm>
            <a:off x="402444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28"/>
          <p:cNvSpPr/>
          <p:nvPr/>
        </p:nvSpPr>
        <p:spPr>
          <a:xfrm>
            <a:off x="425304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29"/>
          <p:cNvSpPr/>
          <p:nvPr/>
        </p:nvSpPr>
        <p:spPr>
          <a:xfrm>
            <a:off x="389088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35"/>
          <p:cNvSpPr/>
          <p:nvPr/>
        </p:nvSpPr>
        <p:spPr>
          <a:xfrm>
            <a:off x="46339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36"/>
          <p:cNvSpPr/>
          <p:nvPr/>
        </p:nvSpPr>
        <p:spPr>
          <a:xfrm>
            <a:off x="48625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37"/>
          <p:cNvSpPr/>
          <p:nvPr/>
        </p:nvSpPr>
        <p:spPr>
          <a:xfrm>
            <a:off x="5357880" y="3693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8"/>
          <p:cNvSpPr/>
          <p:nvPr/>
        </p:nvSpPr>
        <p:spPr>
          <a:xfrm>
            <a:off x="1781280" y="6191280"/>
            <a:ext cx="3962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39"/>
          <p:cNvSpPr/>
          <p:nvPr/>
        </p:nvSpPr>
        <p:spPr>
          <a:xfrm>
            <a:off x="2281320" y="5170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40"/>
          <p:cNvSpPr/>
          <p:nvPr/>
        </p:nvSpPr>
        <p:spPr>
          <a:xfrm>
            <a:off x="3591000" y="61340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41"/>
          <p:cNvSpPr/>
          <p:nvPr/>
        </p:nvSpPr>
        <p:spPr>
          <a:xfrm>
            <a:off x="3448080" y="61628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42"/>
          <p:cNvSpPr/>
          <p:nvPr/>
        </p:nvSpPr>
        <p:spPr>
          <a:xfrm>
            <a:off x="2604960" y="5646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43"/>
          <p:cNvSpPr/>
          <p:nvPr/>
        </p:nvSpPr>
        <p:spPr>
          <a:xfrm>
            <a:off x="3062160" y="596124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44"/>
          <p:cNvSpPr/>
          <p:nvPr/>
        </p:nvSpPr>
        <p:spPr>
          <a:xfrm>
            <a:off x="3290760" y="60562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45"/>
          <p:cNvSpPr/>
          <p:nvPr/>
        </p:nvSpPr>
        <p:spPr>
          <a:xfrm>
            <a:off x="4129200" y="59706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46"/>
          <p:cNvSpPr/>
          <p:nvPr/>
        </p:nvSpPr>
        <p:spPr>
          <a:xfrm>
            <a:off x="4357800" y="57895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7"/>
          <p:cNvSpPr/>
          <p:nvPr/>
        </p:nvSpPr>
        <p:spPr>
          <a:xfrm>
            <a:off x="3938760" y="603720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48"/>
          <p:cNvSpPr/>
          <p:nvPr/>
        </p:nvSpPr>
        <p:spPr>
          <a:xfrm>
            <a:off x="4738680" y="546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49"/>
          <p:cNvSpPr/>
          <p:nvPr/>
        </p:nvSpPr>
        <p:spPr>
          <a:xfrm>
            <a:off x="5024520" y="5160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50"/>
          <p:cNvSpPr/>
          <p:nvPr/>
        </p:nvSpPr>
        <p:spPr>
          <a:xfrm>
            <a:off x="5443560" y="4637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51"/>
          <p:cNvSpPr/>
          <p:nvPr/>
        </p:nvSpPr>
        <p:spPr>
          <a:xfrm flipV="1">
            <a:off x="3591000" y="4743360"/>
            <a:ext cx="0" cy="1486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52"/>
          <p:cNvSpPr/>
          <p:nvPr/>
        </p:nvSpPr>
        <p:spPr>
          <a:xfrm>
            <a:off x="3591000" y="4562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3"/>
          <p:cNvSpPr/>
          <p:nvPr/>
        </p:nvSpPr>
        <p:spPr>
          <a:xfrm>
            <a:off x="567684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54"/>
          <p:cNvSpPr/>
          <p:nvPr/>
        </p:nvSpPr>
        <p:spPr>
          <a:xfrm>
            <a:off x="5505480" y="3686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55"/>
          <p:cNvSpPr/>
          <p:nvPr/>
        </p:nvSpPr>
        <p:spPr>
          <a:xfrm>
            <a:off x="5543640" y="22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56"/>
          <p:cNvSpPr/>
          <p:nvPr/>
        </p:nvSpPr>
        <p:spPr>
          <a:xfrm flipV="1">
            <a:off x="2952720" y="5048280"/>
            <a:ext cx="318132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57"/>
          <p:cNvSpPr/>
          <p:nvPr/>
        </p:nvSpPr>
        <p:spPr>
          <a:xfrm flipV="1">
            <a:off x="2948040" y="4971960"/>
            <a:ext cx="3114720" cy="12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58"/>
          <p:cNvSpPr/>
          <p:nvPr/>
        </p:nvSpPr>
        <p:spPr>
          <a:xfrm flipV="1">
            <a:off x="3062160" y="5143320"/>
            <a:ext cx="3057480" cy="124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59"/>
          <p:cNvSpPr/>
          <p:nvPr/>
        </p:nvSpPr>
        <p:spPr>
          <a:xfrm>
            <a:off x="4675320" y="540216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60"/>
          <p:cNvSpPr/>
          <p:nvPr/>
        </p:nvSpPr>
        <p:spPr>
          <a:xfrm>
            <a:off x="4284720" y="5716440"/>
            <a:ext cx="228600" cy="219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61"/>
          <p:cNvSpPr/>
          <p:nvPr/>
        </p:nvSpPr>
        <p:spPr>
          <a:xfrm>
            <a:off x="3218040" y="5992920"/>
            <a:ext cx="228600" cy="218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elinearne SVM:  feature spac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ja:  originalni ulazni prostor može se preslikati u neki prostor veće dimenzije u kojem će skupa za obučavanje biti linearno separabila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42"/>
          <p:cNvSpPr/>
          <p:nvPr/>
        </p:nvSpPr>
        <p:spPr>
          <a:xfrm flipV="1">
            <a:off x="2068560" y="2558880"/>
            <a:ext cx="0" cy="304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43"/>
          <p:cNvSpPr/>
          <p:nvPr/>
        </p:nvSpPr>
        <p:spPr>
          <a:xfrm>
            <a:off x="447840" y="4170240"/>
            <a:ext cx="331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44"/>
          <p:cNvSpPr/>
          <p:nvPr/>
        </p:nvSpPr>
        <p:spPr>
          <a:xfrm>
            <a:off x="2098800" y="3390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45"/>
          <p:cNvSpPr/>
          <p:nvPr/>
        </p:nvSpPr>
        <p:spPr>
          <a:xfrm>
            <a:off x="1523880" y="3747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46"/>
          <p:cNvSpPr/>
          <p:nvPr/>
        </p:nvSpPr>
        <p:spPr>
          <a:xfrm>
            <a:off x="1676520" y="42940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47"/>
          <p:cNvSpPr/>
          <p:nvPr/>
        </p:nvSpPr>
        <p:spPr>
          <a:xfrm>
            <a:off x="220968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48"/>
          <p:cNvSpPr/>
          <p:nvPr/>
        </p:nvSpPr>
        <p:spPr>
          <a:xfrm>
            <a:off x="1790640" y="34369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49"/>
          <p:cNvSpPr/>
          <p:nvPr/>
        </p:nvSpPr>
        <p:spPr>
          <a:xfrm>
            <a:off x="1295280" y="4065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50"/>
          <p:cNvSpPr/>
          <p:nvPr/>
        </p:nvSpPr>
        <p:spPr>
          <a:xfrm>
            <a:off x="1714680" y="48085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51"/>
          <p:cNvSpPr/>
          <p:nvPr/>
        </p:nvSpPr>
        <p:spPr>
          <a:xfrm>
            <a:off x="2209680" y="3836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52"/>
          <p:cNvSpPr/>
          <p:nvPr/>
        </p:nvSpPr>
        <p:spPr>
          <a:xfrm>
            <a:off x="3111480" y="3824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53"/>
          <p:cNvSpPr/>
          <p:nvPr/>
        </p:nvSpPr>
        <p:spPr>
          <a:xfrm>
            <a:off x="2971800" y="50371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54"/>
          <p:cNvSpPr/>
          <p:nvPr/>
        </p:nvSpPr>
        <p:spPr>
          <a:xfrm>
            <a:off x="723960" y="3951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55"/>
          <p:cNvSpPr/>
          <p:nvPr/>
        </p:nvSpPr>
        <p:spPr>
          <a:xfrm>
            <a:off x="2235240" y="54054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56"/>
          <p:cNvSpPr/>
          <p:nvPr/>
        </p:nvSpPr>
        <p:spPr>
          <a:xfrm>
            <a:off x="3200400" y="4560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57"/>
          <p:cNvSpPr/>
          <p:nvPr/>
        </p:nvSpPr>
        <p:spPr>
          <a:xfrm>
            <a:off x="1263600" y="5100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58"/>
          <p:cNvSpPr/>
          <p:nvPr/>
        </p:nvSpPr>
        <p:spPr>
          <a:xfrm>
            <a:off x="952560" y="4618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59"/>
          <p:cNvSpPr/>
          <p:nvPr/>
        </p:nvSpPr>
        <p:spPr>
          <a:xfrm>
            <a:off x="1009800" y="3094200"/>
            <a:ext cx="88920" cy="88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61"/>
          <p:cNvSpPr/>
          <p:nvPr/>
        </p:nvSpPr>
        <p:spPr>
          <a:xfrm>
            <a:off x="2505240" y="4229280"/>
            <a:ext cx="8856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62"/>
          <p:cNvSpPr/>
          <p:nvPr/>
        </p:nvSpPr>
        <p:spPr>
          <a:xfrm>
            <a:off x="2124000" y="4362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63"/>
          <p:cNvSpPr/>
          <p:nvPr/>
        </p:nvSpPr>
        <p:spPr>
          <a:xfrm>
            <a:off x="2409840" y="3124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6"/>
          <p:cNvSpPr/>
          <p:nvPr/>
        </p:nvSpPr>
        <p:spPr>
          <a:xfrm>
            <a:off x="1114560" y="3209760"/>
            <a:ext cx="1885680" cy="190512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67"/>
          <p:cNvSpPr/>
          <p:nvPr/>
        </p:nvSpPr>
        <p:spPr>
          <a:xfrm>
            <a:off x="1162080" y="3246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68"/>
          <p:cNvSpPr/>
          <p:nvPr/>
        </p:nvSpPr>
        <p:spPr>
          <a:xfrm>
            <a:off x="3086280" y="322740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69"/>
          <p:cNvSpPr/>
          <p:nvPr/>
        </p:nvSpPr>
        <p:spPr>
          <a:xfrm flipV="1">
            <a:off x="6107040" y="2311560"/>
            <a:ext cx="0" cy="20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70"/>
          <p:cNvSpPr/>
          <p:nvPr/>
        </p:nvSpPr>
        <p:spPr>
          <a:xfrm>
            <a:off x="6076800" y="4398840"/>
            <a:ext cx="2347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1"/>
          <p:cNvSpPr/>
          <p:nvPr/>
        </p:nvSpPr>
        <p:spPr>
          <a:xfrm>
            <a:off x="6375240" y="3762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72"/>
          <p:cNvSpPr/>
          <p:nvPr/>
        </p:nvSpPr>
        <p:spPr>
          <a:xfrm>
            <a:off x="5800680" y="4119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73"/>
          <p:cNvSpPr/>
          <p:nvPr/>
        </p:nvSpPr>
        <p:spPr>
          <a:xfrm>
            <a:off x="6181560" y="4675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74"/>
          <p:cNvSpPr/>
          <p:nvPr/>
        </p:nvSpPr>
        <p:spPr>
          <a:xfrm>
            <a:off x="7000920" y="4675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75"/>
          <p:cNvSpPr/>
          <p:nvPr/>
        </p:nvSpPr>
        <p:spPr>
          <a:xfrm>
            <a:off x="6067440" y="38084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76"/>
          <p:cNvSpPr/>
          <p:nvPr/>
        </p:nvSpPr>
        <p:spPr>
          <a:xfrm>
            <a:off x="6276960" y="4084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77"/>
          <p:cNvSpPr/>
          <p:nvPr/>
        </p:nvSpPr>
        <p:spPr>
          <a:xfrm>
            <a:off x="6505560" y="4713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78"/>
          <p:cNvSpPr/>
          <p:nvPr/>
        </p:nvSpPr>
        <p:spPr>
          <a:xfrm>
            <a:off x="6486480" y="42084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79"/>
          <p:cNvSpPr/>
          <p:nvPr/>
        </p:nvSpPr>
        <p:spPr>
          <a:xfrm>
            <a:off x="8093160" y="3843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80"/>
          <p:cNvSpPr/>
          <p:nvPr/>
        </p:nvSpPr>
        <p:spPr>
          <a:xfrm>
            <a:off x="7953480" y="50562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AutoShape 81"/>
          <p:cNvSpPr/>
          <p:nvPr/>
        </p:nvSpPr>
        <p:spPr>
          <a:xfrm>
            <a:off x="7477200" y="2808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82"/>
          <p:cNvSpPr/>
          <p:nvPr/>
        </p:nvSpPr>
        <p:spPr>
          <a:xfrm>
            <a:off x="7483320" y="40719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83"/>
          <p:cNvSpPr/>
          <p:nvPr/>
        </p:nvSpPr>
        <p:spPr>
          <a:xfrm>
            <a:off x="8182080" y="4579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84"/>
          <p:cNvSpPr/>
          <p:nvPr/>
        </p:nvSpPr>
        <p:spPr>
          <a:xfrm>
            <a:off x="7007400" y="351936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85"/>
          <p:cNvSpPr/>
          <p:nvPr/>
        </p:nvSpPr>
        <p:spPr>
          <a:xfrm>
            <a:off x="7610400" y="4751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86"/>
          <p:cNvSpPr/>
          <p:nvPr/>
        </p:nvSpPr>
        <p:spPr>
          <a:xfrm>
            <a:off x="7400880" y="3017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87"/>
          <p:cNvSpPr/>
          <p:nvPr/>
        </p:nvSpPr>
        <p:spPr>
          <a:xfrm>
            <a:off x="6010200" y="4524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88"/>
          <p:cNvSpPr/>
          <p:nvPr/>
        </p:nvSpPr>
        <p:spPr>
          <a:xfrm>
            <a:off x="5629320" y="4657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89"/>
          <p:cNvSpPr/>
          <p:nvPr/>
        </p:nvSpPr>
        <p:spPr>
          <a:xfrm>
            <a:off x="7391520" y="3143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91"/>
          <p:cNvSpPr/>
          <p:nvPr/>
        </p:nvSpPr>
        <p:spPr>
          <a:xfrm>
            <a:off x="6943680" y="26748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92"/>
          <p:cNvSpPr/>
          <p:nvPr/>
        </p:nvSpPr>
        <p:spPr>
          <a:xfrm>
            <a:off x="8067600" y="3246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93"/>
          <p:cNvSpPr/>
          <p:nvPr/>
        </p:nvSpPr>
        <p:spPr>
          <a:xfrm flipH="1">
            <a:off x="4859280" y="4400640"/>
            <a:ext cx="1238400" cy="99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94"/>
          <p:cNvSpPr/>
          <p:nvPr/>
        </p:nvSpPr>
        <p:spPr>
          <a:xfrm>
            <a:off x="6095880" y="3048120"/>
            <a:ext cx="1447920" cy="133344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95"/>
          <p:cNvSpPr/>
          <p:nvPr/>
        </p:nvSpPr>
        <p:spPr>
          <a:xfrm flipV="1">
            <a:off x="6324480" y="4419720"/>
            <a:ext cx="1219320" cy="121896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96"/>
          <p:cNvSpPr/>
          <p:nvPr/>
        </p:nvSpPr>
        <p:spPr>
          <a:xfrm flipV="1">
            <a:off x="4629240" y="3086280"/>
            <a:ext cx="1466640" cy="83808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97"/>
          <p:cNvSpPr/>
          <p:nvPr/>
        </p:nvSpPr>
        <p:spPr>
          <a:xfrm>
            <a:off x="4610160" y="3924360"/>
            <a:ext cx="1714320" cy="169524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98"/>
          <p:cNvSpPr/>
          <p:nvPr/>
        </p:nvSpPr>
        <p:spPr>
          <a:xfrm>
            <a:off x="3591000" y="2486160"/>
            <a:ext cx="1638360" cy="457200"/>
          </a:xfrm>
          <a:custGeom>
            <a:avLst/>
            <a:gdLst>
              <a:gd name="textAreaLeft" fmla="*/ 286560 w 1638360"/>
              <a:gd name="textAreaRight" fmla="*/ 1188000 w 16383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99"/>
          <p:cNvSpPr/>
          <p:nvPr/>
        </p:nvSpPr>
        <p:spPr>
          <a:xfrm>
            <a:off x="3591000" y="2886120"/>
            <a:ext cx="16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“Kernel Trick”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ne SVM  se baziraju na skalarnom proizvodu vektor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o svaku tačku preslikamo u prostor veće dimenzije pomoću neke transformacij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kalarni prozvod post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ernel funkcij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 funckija koja je ekvivalentna skalarnom proizvodu u nekom prostoru stanja (feature spa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j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dimensionalni vekt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;  neka je 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1 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kažimo da j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1 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   where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uda, kern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mplicitn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likava podatke u prostor više dimenzije (bez potrebe da se ekplicitno računa svaki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ceptron Revisited:  Linearni separatori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04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na klasifikacija se može posmatrati kao zadatak razdvajanja klasa u prostoru svojstav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4"/>
          <p:cNvSpPr/>
          <p:nvPr/>
        </p:nvSpPr>
        <p:spPr>
          <a:xfrm flipV="1">
            <a:off x="896760" y="305388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762120" y="597996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936800" y="3809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1362240" y="4167360"/>
            <a:ext cx="8856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514520" y="4713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1133640" y="51703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1666800" y="3570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133640" y="44845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1285920" y="4637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2048040" y="42559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2949480" y="42433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5"/>
          <p:cNvSpPr/>
          <p:nvPr/>
        </p:nvSpPr>
        <p:spPr>
          <a:xfrm>
            <a:off x="2581200" y="51703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6"/>
          <p:cNvSpPr/>
          <p:nvPr/>
        </p:nvSpPr>
        <p:spPr>
          <a:xfrm>
            <a:off x="3571920" y="51703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2263680" y="56912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2886120" y="4560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2263680" y="5005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20"/>
          <p:cNvSpPr/>
          <p:nvPr/>
        </p:nvSpPr>
        <p:spPr>
          <a:xfrm>
            <a:off x="2962440" y="539892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21"/>
          <p:cNvSpPr/>
          <p:nvPr/>
        </p:nvSpPr>
        <p:spPr>
          <a:xfrm>
            <a:off x="3648240" y="448452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2"/>
          <p:cNvSpPr/>
          <p:nvPr/>
        </p:nvSpPr>
        <p:spPr>
          <a:xfrm flipV="1">
            <a:off x="1209600" y="3036960"/>
            <a:ext cx="243864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3"/>
          <p:cNvSpPr/>
          <p:nvPr/>
        </p:nvSpPr>
        <p:spPr>
          <a:xfrm>
            <a:off x="2133720" y="29718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4"/>
          <p:cNvSpPr/>
          <p:nvPr/>
        </p:nvSpPr>
        <p:spPr>
          <a:xfrm>
            <a:off x="2743200" y="3048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5"/>
          <p:cNvSpPr/>
          <p:nvPr/>
        </p:nvSpPr>
        <p:spPr>
          <a:xfrm>
            <a:off x="3809880" y="3809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3619440" y="2695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3619440" y="3257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1190520" y="3038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5286240" y="4381560"/>
            <a:ext cx="29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Koje su funkcije kerneli?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 neke funkcij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provjera da li j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može bii mukotrpan posa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serova teorema 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vaka semipozitivno-definitna simetrična funkcija je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pozitivno-definitna simetrična fukcija odgovara semipozitivno-definitnoj simetričnoj matrici Gra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266920" y="3987720"/>
          <a:ext cx="5353200" cy="2254320"/>
        </p:xfrm>
        <a:graphic>
          <a:graphicData uri="http://schemas.openxmlformats.org/drawingml/2006/table">
            <a:tbl>
              <a:tblPr/>
              <a:tblGrid>
                <a:gridCol w="1069920"/>
                <a:gridCol w="1071720"/>
                <a:gridCol w="1069920"/>
                <a:gridCol w="1071720"/>
                <a:gridCol w="10699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Text Box 55"/>
          <p:cNvSpPr/>
          <p:nvPr/>
        </p:nvSpPr>
        <p:spPr>
          <a:xfrm>
            <a:off x="1647720" y="49053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jeri kernel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ni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likavanj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gdje je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dentit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nomijalni 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(1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likavanj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gdje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ma           dimenzij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 (radial-basis function)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likavanj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gdje je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konačno dimenzional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vaka tačka se preslikava u Gaussian; separator je kombinacija funkcija za support vek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 veće dimenzije i dalje im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utrašnj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menzionaln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likavanje nije “na”), ali linearni separator u tom prostoru odgovar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inearn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oru u originalnom prostor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4"/>
              <p:cNvSpPr txBox="1"/>
              <p:nvPr/>
            </p:nvSpPr>
            <p:spPr>
              <a:xfrm>
                <a:off x="5324400" y="3652920"/>
                <a:ext cx="9511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5"/>
              <p:cNvSpPr txBox="1"/>
              <p:nvPr/>
            </p:nvSpPr>
            <p:spPr>
              <a:xfrm>
                <a:off x="5329080" y="2955960"/>
                <a:ext cx="567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elinearni SVM - matematik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alni zadat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ješen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ređivanje koeficijenata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adi kao i ranij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914400" y="1971720"/>
            <a:ext cx="6438960" cy="15822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ći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oji minimizira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z uslo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876240" y="4267080"/>
            <a:ext cx="278136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161"/>
          <p:cNvSpPr/>
          <p:nvPr/>
        </p:nvSpPr>
        <p:spPr>
          <a:xfrm>
            <a:off x="3352680" y="3352680"/>
            <a:ext cx="2051280" cy="838440"/>
          </a:xfrm>
          <a:prstGeom prst="rect">
            <a:avLst/>
          </a:prstGeom>
          <a:solidFill>
            <a:srgbClr val="00cc99">
              <a:alpha val="9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383760"/>
            <a:ext cx="731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Gaussian kernel (1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09" name="Rectangle 7" descr=""/>
          <p:cNvPicPr/>
          <p:nvPr/>
        </p:nvPicPr>
        <p:blipFill>
          <a:blip r:embed="rId1"/>
          <a:stretch/>
        </p:blipFill>
        <p:spPr>
          <a:xfrm>
            <a:off x="328680" y="1523880"/>
            <a:ext cx="8821800" cy="1457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0" name="Object 3"/>
              <p:cNvSpPr txBox="1"/>
              <p:nvPr/>
            </p:nvSpPr>
            <p:spPr>
              <a:xfrm>
                <a:off x="1814400" y="2462040"/>
                <a:ext cx="4572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1" name="Rectangle 144"/>
          <p:cNvSpPr/>
          <p:nvPr/>
        </p:nvSpPr>
        <p:spPr>
          <a:xfrm>
            <a:off x="6705720" y="38098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likavanje j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mbinacij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mp-ova i ca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28"/>
          <p:cNvSpPr/>
          <p:nvPr/>
        </p:nvSpPr>
        <p:spPr>
          <a:xfrm>
            <a:off x="2438280" y="472428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28"/>
          <p:cNvSpPr/>
          <p:nvPr/>
        </p:nvSpPr>
        <p:spPr>
          <a:xfrm>
            <a:off x="2438280" y="4419720"/>
            <a:ext cx="106560" cy="11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28"/>
          <p:cNvSpPr/>
          <p:nvPr/>
        </p:nvSpPr>
        <p:spPr>
          <a:xfrm>
            <a:off x="2438280" y="411480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28"/>
          <p:cNvSpPr/>
          <p:nvPr/>
        </p:nvSpPr>
        <p:spPr>
          <a:xfrm>
            <a:off x="2438280" y="502920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28"/>
          <p:cNvSpPr/>
          <p:nvPr/>
        </p:nvSpPr>
        <p:spPr>
          <a:xfrm>
            <a:off x="2438280" y="5334120"/>
            <a:ext cx="106560" cy="11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28"/>
          <p:cNvSpPr/>
          <p:nvPr/>
        </p:nvSpPr>
        <p:spPr>
          <a:xfrm>
            <a:off x="2666880" y="472428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28"/>
          <p:cNvSpPr/>
          <p:nvPr/>
        </p:nvSpPr>
        <p:spPr>
          <a:xfrm>
            <a:off x="2895480" y="472428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28"/>
          <p:cNvSpPr/>
          <p:nvPr/>
        </p:nvSpPr>
        <p:spPr>
          <a:xfrm>
            <a:off x="2209680" y="472428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28"/>
          <p:cNvSpPr/>
          <p:nvPr/>
        </p:nvSpPr>
        <p:spPr>
          <a:xfrm>
            <a:off x="1981080" y="472428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9"/>
          <p:cNvSpPr/>
          <p:nvPr/>
        </p:nvSpPr>
        <p:spPr>
          <a:xfrm>
            <a:off x="1752480" y="46990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9"/>
          <p:cNvSpPr/>
          <p:nvPr/>
        </p:nvSpPr>
        <p:spPr>
          <a:xfrm>
            <a:off x="1509840" y="46990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9"/>
          <p:cNvSpPr/>
          <p:nvPr/>
        </p:nvSpPr>
        <p:spPr>
          <a:xfrm>
            <a:off x="1281240" y="46990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9"/>
          <p:cNvSpPr/>
          <p:nvPr/>
        </p:nvSpPr>
        <p:spPr>
          <a:xfrm>
            <a:off x="3567240" y="46990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9"/>
          <p:cNvSpPr/>
          <p:nvPr/>
        </p:nvSpPr>
        <p:spPr>
          <a:xfrm>
            <a:off x="3324240" y="46990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9"/>
          <p:cNvSpPr/>
          <p:nvPr/>
        </p:nvSpPr>
        <p:spPr>
          <a:xfrm>
            <a:off x="3095640" y="46990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9"/>
          <p:cNvSpPr/>
          <p:nvPr/>
        </p:nvSpPr>
        <p:spPr>
          <a:xfrm>
            <a:off x="2424240" y="556272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9"/>
          <p:cNvSpPr/>
          <p:nvPr/>
        </p:nvSpPr>
        <p:spPr>
          <a:xfrm>
            <a:off x="2438280" y="579132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9"/>
          <p:cNvSpPr/>
          <p:nvPr/>
        </p:nvSpPr>
        <p:spPr>
          <a:xfrm>
            <a:off x="2438280" y="601992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9"/>
          <p:cNvSpPr/>
          <p:nvPr/>
        </p:nvSpPr>
        <p:spPr>
          <a:xfrm>
            <a:off x="2409840" y="342900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9"/>
          <p:cNvSpPr/>
          <p:nvPr/>
        </p:nvSpPr>
        <p:spPr>
          <a:xfrm>
            <a:off x="2424240" y="365760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9"/>
          <p:cNvSpPr/>
          <p:nvPr/>
        </p:nvSpPr>
        <p:spPr>
          <a:xfrm>
            <a:off x="2424240" y="388620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Straight Arrow Connector 149"/>
          <p:cNvCxnSpPr/>
          <p:nvPr/>
        </p:nvCxnSpPr>
        <p:spPr>
          <a:xfrm flipV="1">
            <a:off x="835560" y="3201480"/>
            <a:ext cx="3960" cy="32774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734" name="Straight Arrow Connector 150"/>
          <p:cNvCxnSpPr/>
          <p:nvPr/>
        </p:nvCxnSpPr>
        <p:spPr>
          <a:xfrm flipV="1">
            <a:off x="838080" y="6476760"/>
            <a:ext cx="373464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735" name="Oval 28"/>
          <p:cNvSpPr/>
          <p:nvPr/>
        </p:nvSpPr>
        <p:spPr>
          <a:xfrm>
            <a:off x="3505320" y="3581280"/>
            <a:ext cx="10620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9"/>
          <p:cNvSpPr/>
          <p:nvPr/>
        </p:nvSpPr>
        <p:spPr>
          <a:xfrm>
            <a:off x="3471840" y="38098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59"/>
          <p:cNvSpPr/>
          <p:nvPr/>
        </p:nvSpPr>
        <p:spPr>
          <a:xfrm>
            <a:off x="3652920" y="34290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bum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160"/>
          <p:cNvSpPr/>
          <p:nvPr/>
        </p:nvSpPr>
        <p:spPr>
          <a:xfrm>
            <a:off x="3616920" y="37339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v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Object 4"/>
          <p:cNvGraphicFramePr/>
          <p:nvPr/>
        </p:nvGraphicFramePr>
        <p:xfrm>
          <a:off x="3076560" y="1400040"/>
          <a:ext cx="4340160" cy="7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6560" y="1400040"/>
                    <a:ext cx="43401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83760"/>
            <a:ext cx="705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Gaussian kernel (2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42" name="Group 49"/>
          <p:cNvGrpSpPr/>
          <p:nvPr/>
        </p:nvGrpSpPr>
        <p:grpSpPr>
          <a:xfrm>
            <a:off x="355680" y="4449600"/>
            <a:ext cx="4325760" cy="1992600"/>
            <a:chOff x="355680" y="4449600"/>
            <a:chExt cx="4325760" cy="1992600"/>
          </a:xfrm>
        </p:grpSpPr>
        <p:pic>
          <p:nvPicPr>
            <p:cNvPr id="743" name="Picture 3" descr=""/>
            <p:cNvPicPr/>
            <p:nvPr/>
          </p:nvPicPr>
          <p:blipFill>
            <a:blip r:embed="rId1"/>
            <a:stretch/>
          </p:blipFill>
          <p:spPr>
            <a:xfrm>
              <a:off x="355680" y="4449600"/>
              <a:ext cx="4325760" cy="19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Oval 28"/>
            <p:cNvSpPr/>
            <p:nvPr/>
          </p:nvSpPr>
          <p:spPr>
            <a:xfrm>
              <a:off x="2495520" y="4495320"/>
              <a:ext cx="64800" cy="69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28"/>
            <p:cNvSpPr/>
            <p:nvPr/>
          </p:nvSpPr>
          <p:spPr>
            <a:xfrm>
              <a:off x="2333520" y="4630320"/>
              <a:ext cx="6660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28"/>
            <p:cNvSpPr/>
            <p:nvPr/>
          </p:nvSpPr>
          <p:spPr>
            <a:xfrm>
              <a:off x="2732040" y="4676400"/>
              <a:ext cx="6660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28"/>
            <p:cNvSpPr/>
            <p:nvPr/>
          </p:nvSpPr>
          <p:spPr>
            <a:xfrm>
              <a:off x="2257560" y="4813200"/>
              <a:ext cx="6660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28"/>
            <p:cNvSpPr/>
            <p:nvPr/>
          </p:nvSpPr>
          <p:spPr>
            <a:xfrm>
              <a:off x="2637000" y="4857480"/>
              <a:ext cx="6660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28"/>
            <p:cNvSpPr/>
            <p:nvPr/>
          </p:nvSpPr>
          <p:spPr>
            <a:xfrm>
              <a:off x="2162160" y="4767120"/>
              <a:ext cx="6660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28"/>
            <p:cNvSpPr/>
            <p:nvPr/>
          </p:nvSpPr>
          <p:spPr>
            <a:xfrm>
              <a:off x="2019240" y="5105160"/>
              <a:ext cx="6660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28"/>
            <p:cNvSpPr/>
            <p:nvPr/>
          </p:nvSpPr>
          <p:spPr>
            <a:xfrm>
              <a:off x="2808360" y="5176800"/>
              <a:ext cx="66600" cy="69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28"/>
            <p:cNvSpPr/>
            <p:nvPr/>
          </p:nvSpPr>
          <p:spPr>
            <a:xfrm>
              <a:off x="2970360" y="4857480"/>
              <a:ext cx="6660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AutoShape 9"/>
            <p:cNvSpPr/>
            <p:nvPr/>
          </p:nvSpPr>
          <p:spPr>
            <a:xfrm>
              <a:off x="1592280" y="5705640"/>
              <a:ext cx="102960" cy="106200"/>
            </a:xfrm>
            <a:custGeom>
              <a:avLst/>
              <a:gdLst>
                <a:gd name="textAreaLeft" fmla="*/ 31680 w 102960"/>
                <a:gd name="textAreaRight" fmla="*/ 71280 w 102960"/>
                <a:gd name="textAreaTop" fmla="*/ 40680 h 106200"/>
                <a:gd name="textAreaBottom" fmla="*/ 81360 h 106200"/>
              </a:gdLst>
              <a:ahLst/>
              <a:rect l="textAreaLeft" t="textAreaTop" r="textAreaRight" b="textAreaBottom"/>
              <a:pathLst>
                <a:path w="165402" h="178470">
                  <a:moveTo>
                    <a:pt x="0" y="68169"/>
                  </a:moveTo>
                  <a:lnTo>
                    <a:pt x="63178" y="68170"/>
                  </a:lnTo>
                  <a:lnTo>
                    <a:pt x="82701" y="0"/>
                  </a:lnTo>
                  <a:lnTo>
                    <a:pt x="102224" y="68170"/>
                  </a:lnTo>
                  <a:lnTo>
                    <a:pt x="165402" y="68169"/>
                  </a:lnTo>
                  <a:lnTo>
                    <a:pt x="114289" y="110300"/>
                  </a:lnTo>
                  <a:lnTo>
                    <a:pt x="133813" y="178469"/>
                  </a:lnTo>
                  <a:lnTo>
                    <a:pt x="82701" y="136338"/>
                  </a:lnTo>
                  <a:lnTo>
                    <a:pt x="31589" y="178469"/>
                  </a:lnTo>
                  <a:lnTo>
                    <a:pt x="51113" y="110300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AutoShape 9"/>
            <p:cNvSpPr/>
            <p:nvPr/>
          </p:nvSpPr>
          <p:spPr>
            <a:xfrm>
              <a:off x="1449360" y="5751720"/>
              <a:ext cx="102960" cy="106200"/>
            </a:xfrm>
            <a:custGeom>
              <a:avLst/>
              <a:gdLst>
                <a:gd name="textAreaLeft" fmla="*/ 31680 w 102960"/>
                <a:gd name="textAreaRight" fmla="*/ 71280 w 102960"/>
                <a:gd name="textAreaTop" fmla="*/ 40680 h 106200"/>
                <a:gd name="textAreaBottom" fmla="*/ 81360 h 106200"/>
              </a:gdLst>
              <a:ahLst/>
              <a:rect l="textAreaLeft" t="textAreaTop" r="textAreaRight" b="textAreaBottom"/>
              <a:pathLst>
                <a:path w="165402" h="178468">
                  <a:moveTo>
                    <a:pt x="0" y="68169"/>
                  </a:moveTo>
                  <a:lnTo>
                    <a:pt x="63178" y="68169"/>
                  </a:lnTo>
                  <a:lnTo>
                    <a:pt x="82701" y="0"/>
                  </a:lnTo>
                  <a:lnTo>
                    <a:pt x="102224" y="68169"/>
                  </a:lnTo>
                  <a:lnTo>
                    <a:pt x="165402" y="68169"/>
                  </a:lnTo>
                  <a:lnTo>
                    <a:pt x="114289" y="110299"/>
                  </a:lnTo>
                  <a:lnTo>
                    <a:pt x="133813" y="178467"/>
                  </a:lnTo>
                  <a:lnTo>
                    <a:pt x="82701" y="136336"/>
                  </a:lnTo>
                  <a:lnTo>
                    <a:pt x="31589" y="178467"/>
                  </a:lnTo>
                  <a:lnTo>
                    <a:pt x="51113" y="110299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AutoShape 9"/>
            <p:cNvSpPr/>
            <p:nvPr/>
          </p:nvSpPr>
          <p:spPr>
            <a:xfrm>
              <a:off x="1258920" y="5797800"/>
              <a:ext cx="102960" cy="104760"/>
            </a:xfrm>
            <a:custGeom>
              <a:avLst/>
              <a:gdLst>
                <a:gd name="textAreaLeft" fmla="*/ 31680 w 102960"/>
                <a:gd name="textAreaRight" fmla="*/ 71280 w 102960"/>
                <a:gd name="textAreaTop" fmla="*/ 39960 h 104760"/>
                <a:gd name="textAreaBottom" fmla="*/ 80280 h 104760"/>
              </a:gdLst>
              <a:ahLst/>
              <a:rect l="textAreaLeft" t="textAreaTop" r="textAreaRight" b="textAreaBottom"/>
              <a:pathLst>
                <a:path w="165402" h="175805">
                  <a:moveTo>
                    <a:pt x="0" y="67151"/>
                  </a:moveTo>
                  <a:lnTo>
                    <a:pt x="63178" y="67152"/>
                  </a:lnTo>
                  <a:lnTo>
                    <a:pt x="82701" y="0"/>
                  </a:lnTo>
                  <a:lnTo>
                    <a:pt x="102224" y="67152"/>
                  </a:lnTo>
                  <a:lnTo>
                    <a:pt x="165402" y="67151"/>
                  </a:lnTo>
                  <a:lnTo>
                    <a:pt x="114289" y="108653"/>
                  </a:lnTo>
                  <a:lnTo>
                    <a:pt x="133813" y="175804"/>
                  </a:lnTo>
                  <a:lnTo>
                    <a:pt x="82701" y="134302"/>
                  </a:lnTo>
                  <a:lnTo>
                    <a:pt x="31589" y="175804"/>
                  </a:lnTo>
                  <a:lnTo>
                    <a:pt x="51113" y="108653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AutoShape 9"/>
            <p:cNvSpPr/>
            <p:nvPr/>
          </p:nvSpPr>
          <p:spPr>
            <a:xfrm>
              <a:off x="1820880" y="5221080"/>
              <a:ext cx="102960" cy="106200"/>
            </a:xfrm>
            <a:custGeom>
              <a:avLst/>
              <a:gdLst>
                <a:gd name="textAreaLeft" fmla="*/ 31680 w 102960"/>
                <a:gd name="textAreaRight" fmla="*/ 71280 w 102960"/>
                <a:gd name="textAreaTop" fmla="*/ 40680 h 106200"/>
                <a:gd name="textAreaBottom" fmla="*/ 81360 h 106200"/>
              </a:gdLst>
              <a:ahLst/>
              <a:rect l="textAreaLeft" t="textAreaTop" r="textAreaRight" b="textAreaBottom"/>
              <a:pathLst>
                <a:path w="165402" h="178468">
                  <a:moveTo>
                    <a:pt x="0" y="68169"/>
                  </a:moveTo>
                  <a:lnTo>
                    <a:pt x="63178" y="68169"/>
                  </a:lnTo>
                  <a:lnTo>
                    <a:pt x="82701" y="0"/>
                  </a:lnTo>
                  <a:lnTo>
                    <a:pt x="102224" y="68169"/>
                  </a:lnTo>
                  <a:lnTo>
                    <a:pt x="165402" y="68169"/>
                  </a:lnTo>
                  <a:lnTo>
                    <a:pt x="114289" y="110299"/>
                  </a:lnTo>
                  <a:lnTo>
                    <a:pt x="133813" y="178467"/>
                  </a:lnTo>
                  <a:lnTo>
                    <a:pt x="82701" y="136336"/>
                  </a:lnTo>
                  <a:lnTo>
                    <a:pt x="31589" y="178467"/>
                  </a:lnTo>
                  <a:lnTo>
                    <a:pt x="51113" y="110299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AutoShape 9"/>
            <p:cNvSpPr/>
            <p:nvPr/>
          </p:nvSpPr>
          <p:spPr>
            <a:xfrm>
              <a:off x="1725480" y="5130720"/>
              <a:ext cx="102960" cy="106200"/>
            </a:xfrm>
            <a:custGeom>
              <a:avLst/>
              <a:gdLst>
                <a:gd name="textAreaLeft" fmla="*/ 31680 w 102960"/>
                <a:gd name="textAreaRight" fmla="*/ 71280 w 102960"/>
                <a:gd name="textAreaTop" fmla="*/ 40680 h 106200"/>
                <a:gd name="textAreaBottom" fmla="*/ 81360 h 106200"/>
              </a:gdLst>
              <a:ahLst/>
              <a:rect l="textAreaLeft" t="textAreaTop" r="textAreaRight" b="textAreaBottom"/>
              <a:pathLst>
                <a:path w="165402" h="178470">
                  <a:moveTo>
                    <a:pt x="0" y="68169"/>
                  </a:moveTo>
                  <a:lnTo>
                    <a:pt x="63178" y="68170"/>
                  </a:lnTo>
                  <a:lnTo>
                    <a:pt x="82701" y="0"/>
                  </a:lnTo>
                  <a:lnTo>
                    <a:pt x="102224" y="68170"/>
                  </a:lnTo>
                  <a:lnTo>
                    <a:pt x="165402" y="68169"/>
                  </a:lnTo>
                  <a:lnTo>
                    <a:pt x="114289" y="110300"/>
                  </a:lnTo>
                  <a:lnTo>
                    <a:pt x="133813" y="178469"/>
                  </a:lnTo>
                  <a:lnTo>
                    <a:pt x="82701" y="136338"/>
                  </a:lnTo>
                  <a:lnTo>
                    <a:pt x="31589" y="178469"/>
                  </a:lnTo>
                  <a:lnTo>
                    <a:pt x="51113" y="110300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AutoShape 9"/>
            <p:cNvSpPr/>
            <p:nvPr/>
          </p:nvSpPr>
          <p:spPr>
            <a:xfrm>
              <a:off x="1592280" y="5070240"/>
              <a:ext cx="102960" cy="106200"/>
            </a:xfrm>
            <a:custGeom>
              <a:avLst/>
              <a:gdLst>
                <a:gd name="textAreaLeft" fmla="*/ 31680 w 102960"/>
                <a:gd name="textAreaRight" fmla="*/ 71280 w 102960"/>
                <a:gd name="textAreaTop" fmla="*/ 40680 h 106200"/>
                <a:gd name="textAreaBottom" fmla="*/ 81360 h 106200"/>
              </a:gdLst>
              <a:ahLst/>
              <a:rect l="textAreaLeft" t="textAreaTop" r="textAreaRight" b="textAreaBottom"/>
              <a:pathLst>
                <a:path w="165402" h="178470">
                  <a:moveTo>
                    <a:pt x="0" y="68169"/>
                  </a:moveTo>
                  <a:lnTo>
                    <a:pt x="63178" y="68170"/>
                  </a:lnTo>
                  <a:lnTo>
                    <a:pt x="82701" y="0"/>
                  </a:lnTo>
                  <a:lnTo>
                    <a:pt x="102224" y="68170"/>
                  </a:lnTo>
                  <a:lnTo>
                    <a:pt x="165402" y="68169"/>
                  </a:lnTo>
                  <a:lnTo>
                    <a:pt x="114289" y="110300"/>
                  </a:lnTo>
                  <a:lnTo>
                    <a:pt x="133813" y="178469"/>
                  </a:lnTo>
                  <a:lnTo>
                    <a:pt x="82701" y="136338"/>
                  </a:lnTo>
                  <a:lnTo>
                    <a:pt x="31589" y="178469"/>
                  </a:lnTo>
                  <a:lnTo>
                    <a:pt x="51113" y="110300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AutoShape 9"/>
            <p:cNvSpPr/>
            <p:nvPr/>
          </p:nvSpPr>
          <p:spPr>
            <a:xfrm>
              <a:off x="3056040" y="5842080"/>
              <a:ext cx="104760" cy="106200"/>
            </a:xfrm>
            <a:custGeom>
              <a:avLst/>
              <a:gdLst>
                <a:gd name="textAreaLeft" fmla="*/ 32400 w 104760"/>
                <a:gd name="textAreaRight" fmla="*/ 72360 w 104760"/>
                <a:gd name="textAreaTop" fmla="*/ 40680 h 106200"/>
                <a:gd name="textAreaBottom" fmla="*/ 81360 h 106200"/>
              </a:gdLst>
              <a:ahLst/>
              <a:rect l="textAreaLeft" t="textAreaTop" r="textAreaRight" b="textAreaBottom"/>
              <a:pathLst>
                <a:path w="167948" h="178470">
                  <a:moveTo>
                    <a:pt x="0" y="68169"/>
                  </a:moveTo>
                  <a:lnTo>
                    <a:pt x="64151" y="68170"/>
                  </a:lnTo>
                  <a:lnTo>
                    <a:pt x="83974" y="0"/>
                  </a:lnTo>
                  <a:lnTo>
                    <a:pt x="103797" y="68170"/>
                  </a:lnTo>
                  <a:lnTo>
                    <a:pt x="167948" y="68169"/>
                  </a:lnTo>
                  <a:lnTo>
                    <a:pt x="116049" y="110300"/>
                  </a:lnTo>
                  <a:lnTo>
                    <a:pt x="135873" y="178469"/>
                  </a:lnTo>
                  <a:lnTo>
                    <a:pt x="83974" y="136338"/>
                  </a:lnTo>
                  <a:lnTo>
                    <a:pt x="32075" y="178469"/>
                  </a:lnTo>
                  <a:lnTo>
                    <a:pt x="51899" y="110300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AutoShape 9"/>
            <p:cNvSpPr/>
            <p:nvPr/>
          </p:nvSpPr>
          <p:spPr>
            <a:xfrm>
              <a:off x="3160800" y="5932800"/>
              <a:ext cx="102960" cy="106200"/>
            </a:xfrm>
            <a:custGeom>
              <a:avLst/>
              <a:gdLst>
                <a:gd name="textAreaLeft" fmla="*/ 31680 w 102960"/>
                <a:gd name="textAreaRight" fmla="*/ 71280 w 102960"/>
                <a:gd name="textAreaTop" fmla="*/ 40680 h 106200"/>
                <a:gd name="textAreaBottom" fmla="*/ 81360 h 106200"/>
              </a:gdLst>
              <a:ahLst/>
              <a:rect l="textAreaLeft" t="textAreaTop" r="textAreaRight" b="textAreaBottom"/>
              <a:pathLst>
                <a:path w="165402" h="178468">
                  <a:moveTo>
                    <a:pt x="0" y="68169"/>
                  </a:moveTo>
                  <a:lnTo>
                    <a:pt x="63178" y="68169"/>
                  </a:lnTo>
                  <a:lnTo>
                    <a:pt x="82701" y="0"/>
                  </a:lnTo>
                  <a:lnTo>
                    <a:pt x="102224" y="68169"/>
                  </a:lnTo>
                  <a:lnTo>
                    <a:pt x="165402" y="68169"/>
                  </a:lnTo>
                  <a:lnTo>
                    <a:pt x="114289" y="110299"/>
                  </a:lnTo>
                  <a:lnTo>
                    <a:pt x="133813" y="178467"/>
                  </a:lnTo>
                  <a:lnTo>
                    <a:pt x="82701" y="136336"/>
                  </a:lnTo>
                  <a:lnTo>
                    <a:pt x="31589" y="178467"/>
                  </a:lnTo>
                  <a:lnTo>
                    <a:pt x="51113" y="110299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AutoShape 9"/>
            <p:cNvSpPr/>
            <p:nvPr/>
          </p:nvSpPr>
          <p:spPr>
            <a:xfrm>
              <a:off x="3294000" y="5994720"/>
              <a:ext cx="102960" cy="104760"/>
            </a:xfrm>
            <a:custGeom>
              <a:avLst/>
              <a:gdLst>
                <a:gd name="textAreaLeft" fmla="*/ 31680 w 102960"/>
                <a:gd name="textAreaRight" fmla="*/ 71280 w 102960"/>
                <a:gd name="textAreaTop" fmla="*/ 39960 h 104760"/>
                <a:gd name="textAreaBottom" fmla="*/ 80280 h 104760"/>
              </a:gdLst>
              <a:ahLst/>
              <a:rect l="textAreaLeft" t="textAreaTop" r="textAreaRight" b="textAreaBottom"/>
              <a:pathLst>
                <a:path w="165402" h="175805">
                  <a:moveTo>
                    <a:pt x="0" y="67151"/>
                  </a:moveTo>
                  <a:lnTo>
                    <a:pt x="63178" y="67152"/>
                  </a:lnTo>
                  <a:lnTo>
                    <a:pt x="82701" y="0"/>
                  </a:lnTo>
                  <a:lnTo>
                    <a:pt x="102224" y="67152"/>
                  </a:lnTo>
                  <a:lnTo>
                    <a:pt x="165402" y="67151"/>
                  </a:lnTo>
                  <a:lnTo>
                    <a:pt x="114289" y="108653"/>
                  </a:lnTo>
                  <a:lnTo>
                    <a:pt x="133813" y="175804"/>
                  </a:lnTo>
                  <a:lnTo>
                    <a:pt x="82701" y="134302"/>
                  </a:lnTo>
                  <a:lnTo>
                    <a:pt x="31589" y="175804"/>
                  </a:lnTo>
                  <a:lnTo>
                    <a:pt x="51113" y="108653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AutoShape 9"/>
            <p:cNvSpPr/>
            <p:nvPr/>
          </p:nvSpPr>
          <p:spPr>
            <a:xfrm>
              <a:off x="3303720" y="5267160"/>
              <a:ext cx="102960" cy="106200"/>
            </a:xfrm>
            <a:custGeom>
              <a:avLst/>
              <a:gdLst>
                <a:gd name="textAreaLeft" fmla="*/ 31680 w 102960"/>
                <a:gd name="textAreaRight" fmla="*/ 71280 w 102960"/>
                <a:gd name="textAreaTop" fmla="*/ 40680 h 106200"/>
                <a:gd name="textAreaBottom" fmla="*/ 81360 h 106200"/>
              </a:gdLst>
              <a:ahLst/>
              <a:rect l="textAreaLeft" t="textAreaTop" r="textAreaRight" b="textAreaBottom"/>
              <a:pathLst>
                <a:path w="165402" h="178470">
                  <a:moveTo>
                    <a:pt x="0" y="68169"/>
                  </a:moveTo>
                  <a:lnTo>
                    <a:pt x="63178" y="68170"/>
                  </a:lnTo>
                  <a:lnTo>
                    <a:pt x="82701" y="0"/>
                  </a:lnTo>
                  <a:lnTo>
                    <a:pt x="102224" y="68170"/>
                  </a:lnTo>
                  <a:lnTo>
                    <a:pt x="165402" y="68169"/>
                  </a:lnTo>
                  <a:lnTo>
                    <a:pt x="114289" y="110300"/>
                  </a:lnTo>
                  <a:lnTo>
                    <a:pt x="133813" y="178469"/>
                  </a:lnTo>
                  <a:lnTo>
                    <a:pt x="82701" y="136338"/>
                  </a:lnTo>
                  <a:lnTo>
                    <a:pt x="31589" y="178469"/>
                  </a:lnTo>
                  <a:lnTo>
                    <a:pt x="51113" y="110300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AutoShape 9"/>
            <p:cNvSpPr/>
            <p:nvPr/>
          </p:nvSpPr>
          <p:spPr>
            <a:xfrm>
              <a:off x="3444840" y="5221080"/>
              <a:ext cx="104760" cy="106200"/>
            </a:xfrm>
            <a:custGeom>
              <a:avLst/>
              <a:gdLst>
                <a:gd name="textAreaLeft" fmla="*/ 32400 w 104760"/>
                <a:gd name="textAreaRight" fmla="*/ 72360 w 104760"/>
                <a:gd name="textAreaTop" fmla="*/ 40680 h 106200"/>
                <a:gd name="textAreaBottom" fmla="*/ 81360 h 106200"/>
              </a:gdLst>
              <a:ahLst/>
              <a:rect l="textAreaLeft" t="textAreaTop" r="textAreaRight" b="textAreaBottom"/>
              <a:pathLst>
                <a:path w="167948" h="178468">
                  <a:moveTo>
                    <a:pt x="0" y="68169"/>
                  </a:moveTo>
                  <a:lnTo>
                    <a:pt x="64151" y="68169"/>
                  </a:lnTo>
                  <a:lnTo>
                    <a:pt x="83974" y="0"/>
                  </a:lnTo>
                  <a:lnTo>
                    <a:pt x="103797" y="68169"/>
                  </a:lnTo>
                  <a:lnTo>
                    <a:pt x="167948" y="68169"/>
                  </a:lnTo>
                  <a:lnTo>
                    <a:pt x="116049" y="110299"/>
                  </a:lnTo>
                  <a:lnTo>
                    <a:pt x="135873" y="178467"/>
                  </a:lnTo>
                  <a:lnTo>
                    <a:pt x="83974" y="136336"/>
                  </a:lnTo>
                  <a:lnTo>
                    <a:pt x="32075" y="178467"/>
                  </a:lnTo>
                  <a:lnTo>
                    <a:pt x="51899" y="110299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AutoShape 9"/>
            <p:cNvSpPr/>
            <p:nvPr/>
          </p:nvSpPr>
          <p:spPr>
            <a:xfrm>
              <a:off x="3627360" y="5207040"/>
              <a:ext cx="102960" cy="106200"/>
            </a:xfrm>
            <a:custGeom>
              <a:avLst/>
              <a:gdLst>
                <a:gd name="textAreaLeft" fmla="*/ 31680 w 102960"/>
                <a:gd name="textAreaRight" fmla="*/ 71280 w 102960"/>
                <a:gd name="textAreaTop" fmla="*/ 40680 h 106200"/>
                <a:gd name="textAreaBottom" fmla="*/ 81360 h 106200"/>
              </a:gdLst>
              <a:ahLst/>
              <a:rect l="textAreaLeft" t="textAreaTop" r="textAreaRight" b="textAreaBottom"/>
              <a:pathLst>
                <a:path w="165402" h="178470">
                  <a:moveTo>
                    <a:pt x="0" y="68169"/>
                  </a:moveTo>
                  <a:lnTo>
                    <a:pt x="63178" y="68170"/>
                  </a:lnTo>
                  <a:lnTo>
                    <a:pt x="82701" y="0"/>
                  </a:lnTo>
                  <a:lnTo>
                    <a:pt x="102224" y="68170"/>
                  </a:lnTo>
                  <a:lnTo>
                    <a:pt x="165402" y="68169"/>
                  </a:lnTo>
                  <a:lnTo>
                    <a:pt x="114289" y="110300"/>
                  </a:lnTo>
                  <a:lnTo>
                    <a:pt x="133813" y="178469"/>
                  </a:lnTo>
                  <a:lnTo>
                    <a:pt x="82701" y="136338"/>
                  </a:lnTo>
                  <a:lnTo>
                    <a:pt x="31589" y="178469"/>
                  </a:lnTo>
                  <a:lnTo>
                    <a:pt x="51113" y="110300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Rectangle 29"/>
          <p:cNvSpPr/>
          <p:nvPr/>
        </p:nvSpPr>
        <p:spPr>
          <a:xfrm>
            <a:off x="15228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more views of the data is mapped to the feature space by Gaussian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Group 48"/>
          <p:cNvGrpSpPr/>
          <p:nvPr/>
        </p:nvGrpSpPr>
        <p:grpSpPr>
          <a:xfrm>
            <a:off x="4313160" y="1324080"/>
            <a:ext cx="4440240" cy="3425760"/>
            <a:chOff x="4313160" y="1324080"/>
            <a:chExt cx="4440240" cy="3425760"/>
          </a:xfrm>
        </p:grpSpPr>
        <p:pic>
          <p:nvPicPr>
            <p:cNvPr id="767" name="Picture 5" descr=""/>
            <p:cNvPicPr/>
            <p:nvPr/>
          </p:nvPicPr>
          <p:blipFill>
            <a:blip r:embed="rId2"/>
            <a:stretch/>
          </p:blipFill>
          <p:spPr>
            <a:xfrm>
              <a:off x="4313160" y="1324080"/>
              <a:ext cx="444024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Oval 28"/>
            <p:cNvSpPr/>
            <p:nvPr/>
          </p:nvSpPr>
          <p:spPr>
            <a:xfrm>
              <a:off x="6472080" y="1879560"/>
              <a:ext cx="88560" cy="87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Oval 28"/>
            <p:cNvSpPr/>
            <p:nvPr/>
          </p:nvSpPr>
          <p:spPr>
            <a:xfrm>
              <a:off x="6240240" y="2212920"/>
              <a:ext cx="88560" cy="87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Oval 28"/>
            <p:cNvSpPr/>
            <p:nvPr/>
          </p:nvSpPr>
          <p:spPr>
            <a:xfrm>
              <a:off x="6689520" y="2212920"/>
              <a:ext cx="90360" cy="87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Oval 28"/>
            <p:cNvSpPr/>
            <p:nvPr/>
          </p:nvSpPr>
          <p:spPr>
            <a:xfrm>
              <a:off x="6921360" y="2516040"/>
              <a:ext cx="88560" cy="85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Oval 28"/>
            <p:cNvSpPr/>
            <p:nvPr/>
          </p:nvSpPr>
          <p:spPr>
            <a:xfrm>
              <a:off x="5983200" y="2516040"/>
              <a:ext cx="90360" cy="85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AutoShape 9"/>
            <p:cNvSpPr/>
            <p:nvPr/>
          </p:nvSpPr>
          <p:spPr>
            <a:xfrm>
              <a:off x="7267680" y="3492720"/>
              <a:ext cx="141120" cy="128520"/>
            </a:xfrm>
            <a:custGeom>
              <a:avLst/>
              <a:gdLst>
                <a:gd name="textAreaLeft" fmla="*/ 43560 w 141120"/>
                <a:gd name="textAreaRight" fmla="*/ 97560 w 141120"/>
                <a:gd name="textAreaTop" fmla="*/ 48960 h 128520"/>
                <a:gd name="textAreaBottom" fmla="*/ 98280 h 128520"/>
              </a:gdLst>
              <a:ahLst/>
              <a:rect l="textAreaLeft" t="textAreaTop" r="textAreaRight" b="textAreaBottom"/>
              <a:pathLst>
                <a:path w="167606" h="176257">
                  <a:moveTo>
                    <a:pt x="0" y="67324"/>
                  </a:moveTo>
                  <a:lnTo>
                    <a:pt x="64020" y="67324"/>
                  </a:lnTo>
                  <a:lnTo>
                    <a:pt x="83803" y="0"/>
                  </a:lnTo>
                  <a:lnTo>
                    <a:pt x="103586" y="67324"/>
                  </a:lnTo>
                  <a:lnTo>
                    <a:pt x="167606" y="67324"/>
                  </a:lnTo>
                  <a:lnTo>
                    <a:pt x="115812" y="108932"/>
                  </a:lnTo>
                  <a:lnTo>
                    <a:pt x="135596" y="176256"/>
                  </a:lnTo>
                  <a:lnTo>
                    <a:pt x="83803" y="134647"/>
                  </a:lnTo>
                  <a:lnTo>
                    <a:pt x="32010" y="176256"/>
                  </a:lnTo>
                  <a:lnTo>
                    <a:pt x="51794" y="108932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AutoShape 9"/>
            <p:cNvSpPr/>
            <p:nvPr/>
          </p:nvSpPr>
          <p:spPr>
            <a:xfrm>
              <a:off x="7138800" y="3695760"/>
              <a:ext cx="141120" cy="129960"/>
            </a:xfrm>
            <a:custGeom>
              <a:avLst/>
              <a:gdLst>
                <a:gd name="textAreaLeft" fmla="*/ 43560 w 141120"/>
                <a:gd name="textAreaRight" fmla="*/ 97560 w 141120"/>
                <a:gd name="textAreaTop" fmla="*/ 49680 h 129960"/>
                <a:gd name="textAreaBottom" fmla="*/ 99360 h 129960"/>
              </a:gdLst>
              <a:ahLst/>
              <a:rect l="textAreaLeft" t="textAreaTop" r="textAreaRight" b="textAreaBottom"/>
              <a:pathLst>
                <a:path w="167605" h="178433">
                  <a:moveTo>
                    <a:pt x="0" y="68155"/>
                  </a:moveTo>
                  <a:lnTo>
                    <a:pt x="64020" y="68156"/>
                  </a:lnTo>
                  <a:lnTo>
                    <a:pt x="83803" y="0"/>
                  </a:lnTo>
                  <a:lnTo>
                    <a:pt x="103585" y="68156"/>
                  </a:lnTo>
                  <a:lnTo>
                    <a:pt x="167605" y="68155"/>
                  </a:lnTo>
                  <a:lnTo>
                    <a:pt x="115812" y="110277"/>
                  </a:lnTo>
                  <a:lnTo>
                    <a:pt x="135595" y="178432"/>
                  </a:lnTo>
                  <a:lnTo>
                    <a:pt x="83803" y="136310"/>
                  </a:lnTo>
                  <a:lnTo>
                    <a:pt x="32010" y="178432"/>
                  </a:lnTo>
                  <a:lnTo>
                    <a:pt x="51793" y="110277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AutoShape 9"/>
            <p:cNvSpPr/>
            <p:nvPr/>
          </p:nvSpPr>
          <p:spPr>
            <a:xfrm>
              <a:off x="6999120" y="3862440"/>
              <a:ext cx="139680" cy="129960"/>
            </a:xfrm>
            <a:custGeom>
              <a:avLst/>
              <a:gdLst>
                <a:gd name="textAreaLeft" fmla="*/ 43200 w 139680"/>
                <a:gd name="textAreaRight" fmla="*/ 96480 w 139680"/>
                <a:gd name="textAreaTop" fmla="*/ 49680 h 129960"/>
                <a:gd name="textAreaBottom" fmla="*/ 99360 h 129960"/>
              </a:gdLst>
              <a:ahLst/>
              <a:rect l="textAreaLeft" t="textAreaTop" r="textAreaRight" b="textAreaBottom"/>
              <a:pathLst>
                <a:path w="165722" h="178433">
                  <a:moveTo>
                    <a:pt x="0" y="68155"/>
                  </a:moveTo>
                  <a:lnTo>
                    <a:pt x="63301" y="68156"/>
                  </a:lnTo>
                  <a:lnTo>
                    <a:pt x="82861" y="0"/>
                  </a:lnTo>
                  <a:lnTo>
                    <a:pt x="102421" y="68156"/>
                  </a:lnTo>
                  <a:lnTo>
                    <a:pt x="165722" y="68155"/>
                  </a:lnTo>
                  <a:lnTo>
                    <a:pt x="114511" y="110277"/>
                  </a:lnTo>
                  <a:lnTo>
                    <a:pt x="134072" y="178432"/>
                  </a:lnTo>
                  <a:lnTo>
                    <a:pt x="82861" y="136310"/>
                  </a:lnTo>
                  <a:lnTo>
                    <a:pt x="31650" y="178432"/>
                  </a:lnTo>
                  <a:lnTo>
                    <a:pt x="51211" y="110277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AutoShape 9"/>
            <p:cNvSpPr/>
            <p:nvPr/>
          </p:nvSpPr>
          <p:spPr>
            <a:xfrm>
              <a:off x="5597280" y="3529080"/>
              <a:ext cx="141120" cy="129960"/>
            </a:xfrm>
            <a:custGeom>
              <a:avLst/>
              <a:gdLst>
                <a:gd name="textAreaLeft" fmla="*/ 43560 w 141120"/>
                <a:gd name="textAreaRight" fmla="*/ 97560 w 141120"/>
                <a:gd name="textAreaTop" fmla="*/ 49680 h 129960"/>
                <a:gd name="textAreaBottom" fmla="*/ 99360 h 129960"/>
              </a:gdLst>
              <a:ahLst/>
              <a:rect l="textAreaLeft" t="textAreaTop" r="textAreaRight" b="textAreaBottom"/>
              <a:pathLst>
                <a:path w="167606" h="178433">
                  <a:moveTo>
                    <a:pt x="0" y="68155"/>
                  </a:moveTo>
                  <a:lnTo>
                    <a:pt x="64020" y="68156"/>
                  </a:lnTo>
                  <a:lnTo>
                    <a:pt x="83803" y="0"/>
                  </a:lnTo>
                  <a:lnTo>
                    <a:pt x="103586" y="68156"/>
                  </a:lnTo>
                  <a:lnTo>
                    <a:pt x="167606" y="68155"/>
                  </a:lnTo>
                  <a:lnTo>
                    <a:pt x="115812" y="110277"/>
                  </a:lnTo>
                  <a:lnTo>
                    <a:pt x="135596" y="178432"/>
                  </a:lnTo>
                  <a:lnTo>
                    <a:pt x="83803" y="136310"/>
                  </a:lnTo>
                  <a:lnTo>
                    <a:pt x="32010" y="178432"/>
                  </a:lnTo>
                  <a:lnTo>
                    <a:pt x="51794" y="110277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AutoShape 9"/>
            <p:cNvSpPr/>
            <p:nvPr/>
          </p:nvSpPr>
          <p:spPr>
            <a:xfrm>
              <a:off x="5725800" y="3714840"/>
              <a:ext cx="141120" cy="128520"/>
            </a:xfrm>
            <a:custGeom>
              <a:avLst/>
              <a:gdLst>
                <a:gd name="textAreaLeft" fmla="*/ 43560 w 141120"/>
                <a:gd name="textAreaRight" fmla="*/ 97560 w 141120"/>
                <a:gd name="textAreaTop" fmla="*/ 48960 h 128520"/>
                <a:gd name="textAreaBottom" fmla="*/ 98280 h 128520"/>
              </a:gdLst>
              <a:ahLst/>
              <a:rect l="textAreaLeft" t="textAreaTop" r="textAreaRight" b="textAreaBottom"/>
              <a:pathLst>
                <a:path w="167605" h="176257">
                  <a:moveTo>
                    <a:pt x="0" y="67324"/>
                  </a:moveTo>
                  <a:lnTo>
                    <a:pt x="64020" y="67324"/>
                  </a:lnTo>
                  <a:lnTo>
                    <a:pt x="83803" y="0"/>
                  </a:lnTo>
                  <a:lnTo>
                    <a:pt x="103585" y="67324"/>
                  </a:lnTo>
                  <a:lnTo>
                    <a:pt x="167605" y="67324"/>
                  </a:lnTo>
                  <a:lnTo>
                    <a:pt x="115812" y="108932"/>
                  </a:lnTo>
                  <a:lnTo>
                    <a:pt x="135595" y="176256"/>
                  </a:lnTo>
                  <a:lnTo>
                    <a:pt x="83803" y="134647"/>
                  </a:lnTo>
                  <a:lnTo>
                    <a:pt x="32010" y="176256"/>
                  </a:lnTo>
                  <a:lnTo>
                    <a:pt x="51793" y="108932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AutoShape 9"/>
            <p:cNvSpPr/>
            <p:nvPr/>
          </p:nvSpPr>
          <p:spPr>
            <a:xfrm>
              <a:off x="5854680" y="3881520"/>
              <a:ext cx="141120" cy="129960"/>
            </a:xfrm>
            <a:custGeom>
              <a:avLst/>
              <a:gdLst>
                <a:gd name="textAreaLeft" fmla="*/ 43560 w 141120"/>
                <a:gd name="textAreaRight" fmla="*/ 97560 w 141120"/>
                <a:gd name="textAreaTop" fmla="*/ 49680 h 129960"/>
                <a:gd name="textAreaBottom" fmla="*/ 99360 h 129960"/>
              </a:gdLst>
              <a:ahLst/>
              <a:rect l="textAreaLeft" t="textAreaTop" r="textAreaRight" b="textAreaBottom"/>
              <a:pathLst>
                <a:path w="167606" h="178433">
                  <a:moveTo>
                    <a:pt x="0" y="68155"/>
                  </a:moveTo>
                  <a:lnTo>
                    <a:pt x="64020" y="68156"/>
                  </a:lnTo>
                  <a:lnTo>
                    <a:pt x="83803" y="0"/>
                  </a:lnTo>
                  <a:lnTo>
                    <a:pt x="103586" y="68156"/>
                  </a:lnTo>
                  <a:lnTo>
                    <a:pt x="167606" y="68155"/>
                  </a:lnTo>
                  <a:lnTo>
                    <a:pt x="115812" y="110277"/>
                  </a:lnTo>
                  <a:lnTo>
                    <a:pt x="135596" y="178432"/>
                  </a:lnTo>
                  <a:lnTo>
                    <a:pt x="83803" y="136310"/>
                  </a:lnTo>
                  <a:lnTo>
                    <a:pt x="32010" y="178432"/>
                  </a:lnTo>
                  <a:lnTo>
                    <a:pt x="51794" y="110277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AutoShape 9"/>
            <p:cNvSpPr/>
            <p:nvPr/>
          </p:nvSpPr>
          <p:spPr>
            <a:xfrm>
              <a:off x="7062840" y="4251600"/>
              <a:ext cx="141120" cy="129960"/>
            </a:xfrm>
            <a:custGeom>
              <a:avLst/>
              <a:gdLst>
                <a:gd name="textAreaLeft" fmla="*/ 43560 w 141120"/>
                <a:gd name="textAreaRight" fmla="*/ 97560 w 141120"/>
                <a:gd name="textAreaTop" fmla="*/ 49680 h 129960"/>
                <a:gd name="textAreaBottom" fmla="*/ 99360 h 129960"/>
              </a:gdLst>
              <a:ahLst/>
              <a:rect l="textAreaLeft" t="textAreaTop" r="textAreaRight" b="textAreaBottom"/>
              <a:pathLst>
                <a:path w="167605" h="178433">
                  <a:moveTo>
                    <a:pt x="0" y="68155"/>
                  </a:moveTo>
                  <a:lnTo>
                    <a:pt x="64020" y="68156"/>
                  </a:lnTo>
                  <a:lnTo>
                    <a:pt x="83803" y="0"/>
                  </a:lnTo>
                  <a:lnTo>
                    <a:pt x="103585" y="68156"/>
                  </a:lnTo>
                  <a:lnTo>
                    <a:pt x="167605" y="68155"/>
                  </a:lnTo>
                  <a:lnTo>
                    <a:pt x="115812" y="110277"/>
                  </a:lnTo>
                  <a:lnTo>
                    <a:pt x="135595" y="178432"/>
                  </a:lnTo>
                  <a:lnTo>
                    <a:pt x="83803" y="136310"/>
                  </a:lnTo>
                  <a:lnTo>
                    <a:pt x="32010" y="178432"/>
                  </a:lnTo>
                  <a:lnTo>
                    <a:pt x="51793" y="110277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AutoShape 9"/>
            <p:cNvSpPr/>
            <p:nvPr/>
          </p:nvSpPr>
          <p:spPr>
            <a:xfrm>
              <a:off x="7203960" y="4159440"/>
              <a:ext cx="139680" cy="129960"/>
            </a:xfrm>
            <a:custGeom>
              <a:avLst/>
              <a:gdLst>
                <a:gd name="textAreaLeft" fmla="*/ 43200 w 139680"/>
                <a:gd name="textAreaRight" fmla="*/ 96480 w 139680"/>
                <a:gd name="textAreaTop" fmla="*/ 49680 h 129960"/>
                <a:gd name="textAreaBottom" fmla="*/ 99360 h 129960"/>
              </a:gdLst>
              <a:ahLst/>
              <a:rect l="textAreaLeft" t="textAreaTop" r="textAreaRight" b="textAreaBottom"/>
              <a:pathLst>
                <a:path w="165722" h="178433">
                  <a:moveTo>
                    <a:pt x="0" y="68155"/>
                  </a:moveTo>
                  <a:lnTo>
                    <a:pt x="63301" y="68156"/>
                  </a:lnTo>
                  <a:lnTo>
                    <a:pt x="82861" y="0"/>
                  </a:lnTo>
                  <a:lnTo>
                    <a:pt x="102421" y="68156"/>
                  </a:lnTo>
                  <a:lnTo>
                    <a:pt x="165722" y="68155"/>
                  </a:lnTo>
                  <a:lnTo>
                    <a:pt x="114511" y="110277"/>
                  </a:lnTo>
                  <a:lnTo>
                    <a:pt x="134072" y="178432"/>
                  </a:lnTo>
                  <a:lnTo>
                    <a:pt x="82861" y="136310"/>
                  </a:lnTo>
                  <a:lnTo>
                    <a:pt x="31650" y="178432"/>
                  </a:lnTo>
                  <a:lnTo>
                    <a:pt x="51211" y="110277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AutoShape 9"/>
            <p:cNvSpPr/>
            <p:nvPr/>
          </p:nvSpPr>
          <p:spPr>
            <a:xfrm>
              <a:off x="7319880" y="4048200"/>
              <a:ext cx="141120" cy="129960"/>
            </a:xfrm>
            <a:custGeom>
              <a:avLst/>
              <a:gdLst>
                <a:gd name="textAreaLeft" fmla="*/ 43560 w 141120"/>
                <a:gd name="textAreaRight" fmla="*/ 97560 w 141120"/>
                <a:gd name="textAreaTop" fmla="*/ 49680 h 129960"/>
                <a:gd name="textAreaBottom" fmla="*/ 99360 h 129960"/>
              </a:gdLst>
              <a:ahLst/>
              <a:rect l="textAreaLeft" t="textAreaTop" r="textAreaRight" b="textAreaBottom"/>
              <a:pathLst>
                <a:path w="167605" h="178433">
                  <a:moveTo>
                    <a:pt x="0" y="68155"/>
                  </a:moveTo>
                  <a:lnTo>
                    <a:pt x="64020" y="68156"/>
                  </a:lnTo>
                  <a:lnTo>
                    <a:pt x="83803" y="0"/>
                  </a:lnTo>
                  <a:lnTo>
                    <a:pt x="103585" y="68156"/>
                  </a:lnTo>
                  <a:lnTo>
                    <a:pt x="167605" y="68155"/>
                  </a:lnTo>
                  <a:lnTo>
                    <a:pt x="115812" y="110277"/>
                  </a:lnTo>
                  <a:lnTo>
                    <a:pt x="135595" y="178432"/>
                  </a:lnTo>
                  <a:lnTo>
                    <a:pt x="83803" y="136310"/>
                  </a:lnTo>
                  <a:lnTo>
                    <a:pt x="32010" y="178432"/>
                  </a:lnTo>
                  <a:lnTo>
                    <a:pt x="51793" y="110277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AutoShape 9"/>
            <p:cNvSpPr/>
            <p:nvPr/>
          </p:nvSpPr>
          <p:spPr>
            <a:xfrm>
              <a:off x="5919840" y="4270680"/>
              <a:ext cx="139680" cy="129960"/>
            </a:xfrm>
            <a:custGeom>
              <a:avLst/>
              <a:gdLst>
                <a:gd name="textAreaLeft" fmla="*/ 43200 w 139680"/>
                <a:gd name="textAreaRight" fmla="*/ 96480 w 139680"/>
                <a:gd name="textAreaTop" fmla="*/ 49680 h 129960"/>
                <a:gd name="textAreaBottom" fmla="*/ 99360 h 129960"/>
              </a:gdLst>
              <a:ahLst/>
              <a:rect l="textAreaLeft" t="textAreaTop" r="textAreaRight" b="textAreaBottom"/>
              <a:pathLst>
                <a:path w="165722" h="178433">
                  <a:moveTo>
                    <a:pt x="0" y="68155"/>
                  </a:moveTo>
                  <a:lnTo>
                    <a:pt x="63301" y="68156"/>
                  </a:lnTo>
                  <a:lnTo>
                    <a:pt x="82861" y="0"/>
                  </a:lnTo>
                  <a:lnTo>
                    <a:pt x="102421" y="68156"/>
                  </a:lnTo>
                  <a:lnTo>
                    <a:pt x="165722" y="68155"/>
                  </a:lnTo>
                  <a:lnTo>
                    <a:pt x="114511" y="110277"/>
                  </a:lnTo>
                  <a:lnTo>
                    <a:pt x="134072" y="178432"/>
                  </a:lnTo>
                  <a:lnTo>
                    <a:pt x="82861" y="136310"/>
                  </a:lnTo>
                  <a:lnTo>
                    <a:pt x="31650" y="178432"/>
                  </a:lnTo>
                  <a:lnTo>
                    <a:pt x="51211" y="110277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AutoShape 9"/>
            <p:cNvSpPr/>
            <p:nvPr/>
          </p:nvSpPr>
          <p:spPr>
            <a:xfrm>
              <a:off x="5725800" y="4159440"/>
              <a:ext cx="141120" cy="129960"/>
            </a:xfrm>
            <a:custGeom>
              <a:avLst/>
              <a:gdLst>
                <a:gd name="textAreaLeft" fmla="*/ 43560 w 141120"/>
                <a:gd name="textAreaRight" fmla="*/ 97560 w 141120"/>
                <a:gd name="textAreaTop" fmla="*/ 49680 h 129960"/>
                <a:gd name="textAreaBottom" fmla="*/ 99360 h 129960"/>
              </a:gdLst>
              <a:ahLst/>
              <a:rect l="textAreaLeft" t="textAreaTop" r="textAreaRight" b="textAreaBottom"/>
              <a:pathLst>
                <a:path w="167605" h="178433">
                  <a:moveTo>
                    <a:pt x="0" y="68155"/>
                  </a:moveTo>
                  <a:lnTo>
                    <a:pt x="64020" y="68156"/>
                  </a:lnTo>
                  <a:lnTo>
                    <a:pt x="83803" y="0"/>
                  </a:lnTo>
                  <a:lnTo>
                    <a:pt x="103585" y="68156"/>
                  </a:lnTo>
                  <a:lnTo>
                    <a:pt x="167605" y="68155"/>
                  </a:lnTo>
                  <a:lnTo>
                    <a:pt x="115812" y="110277"/>
                  </a:lnTo>
                  <a:lnTo>
                    <a:pt x="135595" y="178432"/>
                  </a:lnTo>
                  <a:lnTo>
                    <a:pt x="83803" y="136310"/>
                  </a:lnTo>
                  <a:lnTo>
                    <a:pt x="32010" y="178432"/>
                  </a:lnTo>
                  <a:lnTo>
                    <a:pt x="51793" y="110277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AutoShape 9"/>
            <p:cNvSpPr/>
            <p:nvPr/>
          </p:nvSpPr>
          <p:spPr>
            <a:xfrm>
              <a:off x="5597280" y="4048200"/>
              <a:ext cx="141120" cy="129960"/>
            </a:xfrm>
            <a:custGeom>
              <a:avLst/>
              <a:gdLst>
                <a:gd name="textAreaLeft" fmla="*/ 43560 w 141120"/>
                <a:gd name="textAreaRight" fmla="*/ 97560 w 141120"/>
                <a:gd name="textAreaTop" fmla="*/ 49680 h 129960"/>
                <a:gd name="textAreaBottom" fmla="*/ 99360 h 129960"/>
              </a:gdLst>
              <a:ahLst/>
              <a:rect l="textAreaLeft" t="textAreaTop" r="textAreaRight" b="textAreaBottom"/>
              <a:pathLst>
                <a:path w="167606" h="178433">
                  <a:moveTo>
                    <a:pt x="0" y="68155"/>
                  </a:moveTo>
                  <a:lnTo>
                    <a:pt x="64020" y="68156"/>
                  </a:lnTo>
                  <a:lnTo>
                    <a:pt x="83803" y="0"/>
                  </a:lnTo>
                  <a:lnTo>
                    <a:pt x="103586" y="68156"/>
                  </a:lnTo>
                  <a:lnTo>
                    <a:pt x="167606" y="68155"/>
                  </a:lnTo>
                  <a:lnTo>
                    <a:pt x="115812" y="110277"/>
                  </a:lnTo>
                  <a:lnTo>
                    <a:pt x="135596" y="178432"/>
                  </a:lnTo>
                  <a:lnTo>
                    <a:pt x="83803" y="136310"/>
                  </a:lnTo>
                  <a:lnTo>
                    <a:pt x="32010" y="178432"/>
                  </a:lnTo>
                  <a:lnTo>
                    <a:pt x="51794" y="110277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0" y="1752480"/>
            <a:ext cx="4754520" cy="3505320"/>
          </a:xfrm>
          <a:prstGeom prst="rect">
            <a:avLst/>
          </a:prstGeom>
          <a:ln w="0">
            <a:noFill/>
          </a:ln>
        </p:spPr>
      </p:pic>
      <p:sp>
        <p:nvSpPr>
          <p:cNvPr id="786" name="Title 1"/>
          <p:cNvSpPr/>
          <p:nvPr/>
        </p:nvSpPr>
        <p:spPr>
          <a:xfrm>
            <a:off x="685800" y="384120"/>
            <a:ext cx="758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Gaussian kernel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9"/>
          <p:cNvSpPr/>
          <p:nvPr/>
        </p:nvSpPr>
        <p:spPr>
          <a:xfrm>
            <a:off x="1387440" y="464832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9"/>
          <p:cNvSpPr/>
          <p:nvPr/>
        </p:nvSpPr>
        <p:spPr>
          <a:xfrm>
            <a:off x="1539720" y="480060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1692360" y="500364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9"/>
          <p:cNvSpPr/>
          <p:nvPr/>
        </p:nvSpPr>
        <p:spPr>
          <a:xfrm>
            <a:off x="2544840" y="46990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9"/>
          <p:cNvSpPr/>
          <p:nvPr/>
        </p:nvSpPr>
        <p:spPr>
          <a:xfrm>
            <a:off x="2133720" y="49276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9"/>
          <p:cNvSpPr/>
          <p:nvPr/>
        </p:nvSpPr>
        <p:spPr>
          <a:xfrm>
            <a:off x="2544840" y="487692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9"/>
          <p:cNvSpPr/>
          <p:nvPr/>
        </p:nvSpPr>
        <p:spPr>
          <a:xfrm>
            <a:off x="2468520" y="507996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9"/>
          <p:cNvSpPr/>
          <p:nvPr/>
        </p:nvSpPr>
        <p:spPr>
          <a:xfrm>
            <a:off x="2925720" y="49528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9"/>
          <p:cNvSpPr/>
          <p:nvPr/>
        </p:nvSpPr>
        <p:spPr>
          <a:xfrm>
            <a:off x="3078000" y="477504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9"/>
          <p:cNvSpPr/>
          <p:nvPr/>
        </p:nvSpPr>
        <p:spPr>
          <a:xfrm>
            <a:off x="3230640" y="457200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28"/>
          <p:cNvSpPr/>
          <p:nvPr/>
        </p:nvSpPr>
        <p:spPr>
          <a:xfrm>
            <a:off x="1828800" y="3005280"/>
            <a:ext cx="106200" cy="11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Oval 28"/>
          <p:cNvSpPr/>
          <p:nvPr/>
        </p:nvSpPr>
        <p:spPr>
          <a:xfrm>
            <a:off x="2087640" y="2471760"/>
            <a:ext cx="10620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28"/>
          <p:cNvSpPr/>
          <p:nvPr/>
        </p:nvSpPr>
        <p:spPr>
          <a:xfrm>
            <a:off x="2340000" y="1905120"/>
            <a:ext cx="106200" cy="11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28"/>
          <p:cNvSpPr/>
          <p:nvPr/>
        </p:nvSpPr>
        <p:spPr>
          <a:xfrm>
            <a:off x="2392200" y="247176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Oval 28"/>
          <p:cNvSpPr/>
          <p:nvPr/>
        </p:nvSpPr>
        <p:spPr>
          <a:xfrm>
            <a:off x="2620800" y="247176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Oval 28"/>
          <p:cNvSpPr/>
          <p:nvPr/>
        </p:nvSpPr>
        <p:spPr>
          <a:xfrm>
            <a:off x="2468520" y="3048120"/>
            <a:ext cx="106560" cy="11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Oval 28"/>
          <p:cNvSpPr/>
          <p:nvPr/>
        </p:nvSpPr>
        <p:spPr>
          <a:xfrm>
            <a:off x="2849400" y="3005280"/>
            <a:ext cx="106560" cy="11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2" descr=""/>
          <p:cNvPicPr/>
          <p:nvPr/>
        </p:nvPicPr>
        <p:blipFill>
          <a:blip r:embed="rId2"/>
          <a:stretch/>
        </p:blipFill>
        <p:spPr>
          <a:xfrm>
            <a:off x="4280040" y="1627200"/>
            <a:ext cx="4709880" cy="3502080"/>
          </a:xfrm>
          <a:prstGeom prst="rect">
            <a:avLst/>
          </a:prstGeom>
          <a:ln w="0">
            <a:noFill/>
          </a:ln>
        </p:spPr>
      </p:pic>
      <p:sp>
        <p:nvSpPr>
          <p:cNvPr id="805" name="AutoShape 9"/>
          <p:cNvSpPr/>
          <p:nvPr/>
        </p:nvSpPr>
        <p:spPr>
          <a:xfrm>
            <a:off x="5610240" y="457200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5762520" y="47242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9"/>
          <p:cNvSpPr/>
          <p:nvPr/>
        </p:nvSpPr>
        <p:spPr>
          <a:xfrm>
            <a:off x="5915160" y="49276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9"/>
          <p:cNvSpPr/>
          <p:nvPr/>
        </p:nvSpPr>
        <p:spPr>
          <a:xfrm>
            <a:off x="6767640" y="462276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9"/>
          <p:cNvSpPr/>
          <p:nvPr/>
        </p:nvSpPr>
        <p:spPr>
          <a:xfrm>
            <a:off x="6372360" y="480060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9"/>
          <p:cNvSpPr/>
          <p:nvPr/>
        </p:nvSpPr>
        <p:spPr>
          <a:xfrm>
            <a:off x="6767640" y="480060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9"/>
          <p:cNvSpPr/>
          <p:nvPr/>
        </p:nvSpPr>
        <p:spPr>
          <a:xfrm>
            <a:off x="6691320" y="500364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9"/>
          <p:cNvSpPr/>
          <p:nvPr/>
        </p:nvSpPr>
        <p:spPr>
          <a:xfrm>
            <a:off x="7148520" y="487692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9"/>
          <p:cNvSpPr/>
          <p:nvPr/>
        </p:nvSpPr>
        <p:spPr>
          <a:xfrm>
            <a:off x="7300800" y="46990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9"/>
          <p:cNvSpPr/>
          <p:nvPr/>
        </p:nvSpPr>
        <p:spPr>
          <a:xfrm>
            <a:off x="7453440" y="449568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Oval 28"/>
          <p:cNvSpPr/>
          <p:nvPr/>
        </p:nvSpPr>
        <p:spPr>
          <a:xfrm>
            <a:off x="6051600" y="2928960"/>
            <a:ext cx="10620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Oval 28"/>
          <p:cNvSpPr/>
          <p:nvPr/>
        </p:nvSpPr>
        <p:spPr>
          <a:xfrm>
            <a:off x="6310440" y="2395440"/>
            <a:ext cx="10620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Oval 28"/>
          <p:cNvSpPr/>
          <p:nvPr/>
        </p:nvSpPr>
        <p:spPr>
          <a:xfrm>
            <a:off x="6562800" y="1828800"/>
            <a:ext cx="10620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28"/>
          <p:cNvSpPr/>
          <p:nvPr/>
        </p:nvSpPr>
        <p:spPr>
          <a:xfrm>
            <a:off x="6615000" y="239544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Oval 28"/>
          <p:cNvSpPr/>
          <p:nvPr/>
        </p:nvSpPr>
        <p:spPr>
          <a:xfrm>
            <a:off x="6827760" y="2362320"/>
            <a:ext cx="106560" cy="11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Oval 28"/>
          <p:cNvSpPr/>
          <p:nvPr/>
        </p:nvSpPr>
        <p:spPr>
          <a:xfrm>
            <a:off x="6691320" y="2971800"/>
            <a:ext cx="10620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28"/>
          <p:cNvSpPr/>
          <p:nvPr/>
        </p:nvSpPr>
        <p:spPr>
          <a:xfrm>
            <a:off x="7072200" y="292896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62"/>
          <p:cNvSpPr/>
          <p:nvPr/>
        </p:nvSpPr>
        <p:spPr>
          <a:xfrm>
            <a:off x="3083040" y="1533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erravan koja razdvaja 2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3" name="Straight Arrow Connector 63"/>
          <p:cNvCxnSpPr/>
          <p:nvPr/>
        </p:nvCxnSpPr>
        <p:spPr>
          <a:xfrm>
            <a:off x="4939920" y="2347560"/>
            <a:ext cx="669240" cy="1051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Rectangle 7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7925040" cy="145116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440" y="38376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Polinomijalni kern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ct 2"/>
              <p:cNvSpPr txBox="1"/>
              <p:nvPr/>
            </p:nvSpPr>
            <p:spPr>
              <a:xfrm>
                <a:off x="2503440" y="1281240"/>
                <a:ext cx="36180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3"/>
              <p:cNvSpPr txBox="1"/>
              <p:nvPr/>
            </p:nvSpPr>
            <p:spPr>
              <a:xfrm>
                <a:off x="4114800" y="3809880"/>
                <a:ext cx="10382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Object 4"/>
              <p:cNvSpPr txBox="1"/>
              <p:nvPr/>
            </p:nvSpPr>
            <p:spPr>
              <a:xfrm>
                <a:off x="1523880" y="5568840"/>
                <a:ext cx="66391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</m:sSubSup>
                        </m:e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29" name="Rectangle 12"/>
          <p:cNvSpPr/>
          <p:nvPr/>
        </p:nvSpPr>
        <p:spPr>
          <a:xfrm>
            <a:off x="3581280" y="28908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imensi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13"/>
          <p:cNvSpPr/>
          <p:nvPr/>
        </p:nvSpPr>
        <p:spPr>
          <a:xfrm>
            <a:off x="2971800" y="51879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-dimensi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241"/>
          <p:cNvSpPr/>
          <p:nvPr/>
        </p:nvSpPr>
        <p:spPr>
          <a:xfrm>
            <a:off x="4597200" y="4419360"/>
            <a:ext cx="0" cy="686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69"/>
          <p:cNvSpPr/>
          <p:nvPr/>
        </p:nvSpPr>
        <p:spPr>
          <a:xfrm>
            <a:off x="4724280" y="4419720"/>
            <a:ext cx="11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247320"/>
            <a:ext cx="731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Primjer upotrebe kernela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cxnSp>
        <p:nvCxnSpPr>
          <p:cNvPr id="834" name="Straight Arrow Connector 16"/>
          <p:cNvCxnSpPr/>
          <p:nvPr/>
        </p:nvCxnSpPr>
        <p:spPr>
          <a:xfrm flipV="1">
            <a:off x="2057400" y="1283760"/>
            <a:ext cx="2160" cy="27439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835" name="Straight Arrow Connector 17"/>
          <p:cNvCxnSpPr/>
          <p:nvPr/>
        </p:nvCxnSpPr>
        <p:spPr>
          <a:xfrm flipV="1">
            <a:off x="456840" y="2731320"/>
            <a:ext cx="3431160" cy="25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836" name="Object 2"/>
              <p:cNvSpPr txBox="1"/>
              <p:nvPr/>
            </p:nvSpPr>
            <p:spPr>
              <a:xfrm>
                <a:off x="2133720" y="990720"/>
                <a:ext cx="4251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Object 3"/>
              <p:cNvSpPr txBox="1"/>
              <p:nvPr/>
            </p:nvSpPr>
            <p:spPr>
              <a:xfrm>
                <a:off x="3971880" y="2503440"/>
                <a:ext cx="4478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8" name="AutoShape 9"/>
          <p:cNvSpPr/>
          <p:nvPr/>
        </p:nvSpPr>
        <p:spPr>
          <a:xfrm>
            <a:off x="2743200" y="263052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9"/>
          <p:cNvSpPr/>
          <p:nvPr/>
        </p:nvSpPr>
        <p:spPr>
          <a:xfrm>
            <a:off x="1204920" y="263052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28"/>
          <p:cNvSpPr/>
          <p:nvPr/>
        </p:nvSpPr>
        <p:spPr>
          <a:xfrm>
            <a:off x="2027160" y="196992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28"/>
          <p:cNvSpPr/>
          <p:nvPr/>
        </p:nvSpPr>
        <p:spPr>
          <a:xfrm>
            <a:off x="2027160" y="3375000"/>
            <a:ext cx="10656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4"/>
              <p:cNvSpPr txBox="1"/>
              <p:nvPr/>
            </p:nvSpPr>
            <p:spPr>
              <a:xfrm>
                <a:off x="2209680" y="1817640"/>
                <a:ext cx="3128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5"/>
              <p:cNvSpPr txBox="1"/>
              <p:nvPr/>
            </p:nvSpPr>
            <p:spPr>
              <a:xfrm>
                <a:off x="2209680" y="3189240"/>
                <a:ext cx="3128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4" name="Object 6"/>
              <p:cNvSpPr txBox="1"/>
              <p:nvPr/>
            </p:nvSpPr>
            <p:spPr>
              <a:xfrm>
                <a:off x="2895480" y="2351160"/>
                <a:ext cx="3128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Object 7"/>
              <p:cNvSpPr txBox="1"/>
              <p:nvPr/>
            </p:nvSpPr>
            <p:spPr>
              <a:xfrm>
                <a:off x="1371600" y="2362320"/>
                <a:ext cx="3128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6" name="Rectangle 26"/>
          <p:cNvSpPr/>
          <p:nvPr/>
        </p:nvSpPr>
        <p:spPr>
          <a:xfrm>
            <a:off x="4343400" y="1219320"/>
            <a:ext cx="43639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adci nisu linearno separabilni u ulaznom prostoru (</a:t>
            </a:r>
            <a:r>
              <a:rPr b="0" lang="en-US" sz="2400" spc="-1" strike="noStrike">
                <a:solidFill>
                  <a:srgbClr val="000000"/>
                </a:solidFill>
                <a:latin typeface="Castellar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likava podatke u prostor veće dimenzije (</a:t>
            </a:r>
            <a:r>
              <a:rPr b="0" lang="en-US" sz="2400" spc="-1" strike="noStrike">
                <a:solidFill>
                  <a:srgbClr val="000000"/>
                </a:solidFill>
                <a:latin typeface="Castellar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u kojem su podaci linearno separabil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Object 8"/>
              <p:cNvSpPr txBox="1"/>
              <p:nvPr/>
            </p:nvSpPr>
            <p:spPr>
              <a:xfrm>
                <a:off x="5602320" y="2036880"/>
                <a:ext cx="2104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848" name="Object 9"/>
          <p:cNvGraphicFramePr/>
          <p:nvPr/>
        </p:nvGraphicFramePr>
        <p:xfrm>
          <a:off x="152280" y="4043520"/>
          <a:ext cx="8686800" cy="25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3520"/>
                    <a:ext cx="8686800" cy="25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0" y="231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Primjer upotrebe kernel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Object 2"/>
              <p:cNvSpPr txBox="1"/>
              <p:nvPr/>
            </p:nvSpPr>
            <p:spPr>
              <a:xfrm>
                <a:off x="4700520" y="1085760"/>
                <a:ext cx="233532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2" name="Rectangle 18"/>
          <p:cNvSpPr/>
          <p:nvPr/>
        </p:nvSpPr>
        <p:spPr>
          <a:xfrm>
            <a:off x="242640" y="149076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splicitno preslikavanje je dato 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3" name="Straight Arrow Connector 23"/>
          <p:cNvCxnSpPr/>
          <p:nvPr/>
        </p:nvCxnSpPr>
        <p:spPr>
          <a:xfrm flipV="1">
            <a:off x="1751400" y="2514240"/>
            <a:ext cx="2520" cy="27439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854" name="Straight Arrow Connector 24"/>
          <p:cNvCxnSpPr/>
          <p:nvPr/>
        </p:nvCxnSpPr>
        <p:spPr>
          <a:xfrm flipV="1">
            <a:off x="152280" y="3962160"/>
            <a:ext cx="343152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855" name="Object 3"/>
              <p:cNvSpPr txBox="1"/>
              <p:nvPr/>
            </p:nvSpPr>
            <p:spPr>
              <a:xfrm>
                <a:off x="1828800" y="2362320"/>
                <a:ext cx="425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Object 4"/>
              <p:cNvSpPr txBox="1"/>
              <p:nvPr/>
            </p:nvSpPr>
            <p:spPr>
              <a:xfrm>
                <a:off x="3666960" y="3733920"/>
                <a:ext cx="4478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7" name="AutoShape 9"/>
          <p:cNvSpPr/>
          <p:nvPr/>
        </p:nvSpPr>
        <p:spPr>
          <a:xfrm>
            <a:off x="2438280" y="386064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9"/>
          <p:cNvSpPr/>
          <p:nvPr/>
        </p:nvSpPr>
        <p:spPr>
          <a:xfrm>
            <a:off x="900000" y="386064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7" h="177800">
                <a:moveTo>
                  <a:pt x="0" y="67913"/>
                </a:moveTo>
                <a:lnTo>
                  <a:pt x="63669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7" y="67913"/>
                </a:lnTo>
                <a:lnTo>
                  <a:pt x="115177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4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Oval 28"/>
          <p:cNvSpPr/>
          <p:nvPr/>
        </p:nvSpPr>
        <p:spPr>
          <a:xfrm>
            <a:off x="1722600" y="3200400"/>
            <a:ext cx="106200" cy="119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Oval 28"/>
          <p:cNvSpPr/>
          <p:nvPr/>
        </p:nvSpPr>
        <p:spPr>
          <a:xfrm>
            <a:off x="1722600" y="4605480"/>
            <a:ext cx="106200" cy="11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5"/>
              <p:cNvSpPr txBox="1"/>
              <p:nvPr/>
            </p:nvSpPr>
            <p:spPr>
              <a:xfrm>
                <a:off x="1905120" y="3048120"/>
                <a:ext cx="3124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6"/>
              <p:cNvSpPr txBox="1"/>
              <p:nvPr/>
            </p:nvSpPr>
            <p:spPr>
              <a:xfrm>
                <a:off x="1905120" y="4419720"/>
                <a:ext cx="3124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Object 7"/>
              <p:cNvSpPr txBox="1"/>
              <p:nvPr/>
            </p:nvSpPr>
            <p:spPr>
              <a:xfrm>
                <a:off x="2590920" y="3581280"/>
                <a:ext cx="3124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8"/>
              <p:cNvSpPr txBox="1"/>
              <p:nvPr/>
            </p:nvSpPr>
            <p:spPr>
              <a:xfrm>
                <a:off x="1066680" y="3592440"/>
                <a:ext cx="3128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865" name="Straight Arrow Connector 36"/>
          <p:cNvCxnSpPr/>
          <p:nvPr/>
        </p:nvCxnSpPr>
        <p:spPr>
          <a:xfrm flipV="1">
            <a:off x="6477120" y="2818800"/>
            <a:ext cx="2160" cy="14482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866" name="Straight Arrow Connector 37"/>
          <p:cNvCxnSpPr/>
          <p:nvPr/>
        </p:nvCxnSpPr>
        <p:spPr>
          <a:xfrm>
            <a:off x="6477120" y="4266720"/>
            <a:ext cx="1830960" cy="25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867" name="Object 9"/>
              <p:cNvSpPr txBox="1"/>
              <p:nvPr/>
            </p:nvSpPr>
            <p:spPr>
              <a:xfrm>
                <a:off x="6553080" y="2666880"/>
                <a:ext cx="425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10"/>
              <p:cNvSpPr txBox="1"/>
              <p:nvPr/>
            </p:nvSpPr>
            <p:spPr>
              <a:xfrm>
                <a:off x="8391600" y="4038480"/>
                <a:ext cx="4474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cxnSp>
        <p:nvCxnSpPr>
          <p:cNvPr id="869" name="Straight Arrow Connector 48"/>
          <p:cNvCxnSpPr/>
          <p:nvPr/>
        </p:nvCxnSpPr>
        <p:spPr>
          <a:xfrm flipH="1">
            <a:off x="5333400" y="4266000"/>
            <a:ext cx="1143720" cy="839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870" name="Oval 28"/>
          <p:cNvSpPr/>
          <p:nvPr/>
        </p:nvSpPr>
        <p:spPr>
          <a:xfrm>
            <a:off x="6419880" y="3505320"/>
            <a:ext cx="106200" cy="11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Object 11"/>
              <p:cNvSpPr txBox="1"/>
              <p:nvPr/>
            </p:nvSpPr>
            <p:spPr>
              <a:xfrm>
                <a:off x="4876920" y="5181480"/>
                <a:ext cx="10015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2" name="AutoShape 9"/>
          <p:cNvSpPr/>
          <p:nvPr/>
        </p:nvSpPr>
        <p:spPr>
          <a:xfrm>
            <a:off x="7238880" y="4191120"/>
            <a:ext cx="166680" cy="177840"/>
          </a:xfrm>
          <a:custGeom>
            <a:avLst/>
            <a:gdLst>
              <a:gd name="textAreaLeft" fmla="*/ 51480 w 166680"/>
              <a:gd name="textAreaRight" fmla="*/ 115200 w 166680"/>
              <a:gd name="textAreaTop" fmla="*/ 68040 h 177840"/>
              <a:gd name="textAreaBottom" fmla="*/ 136080 h 177840"/>
            </a:gdLst>
            <a:ahLst/>
            <a:rect l="textAreaLeft" t="textAreaTop" r="textAreaRight" b="textAreaBottom"/>
            <a:pathLst>
              <a:path w="166688" h="177800">
                <a:moveTo>
                  <a:pt x="0" y="67913"/>
                </a:moveTo>
                <a:lnTo>
                  <a:pt x="63670" y="67914"/>
                </a:lnTo>
                <a:lnTo>
                  <a:pt x="83344" y="0"/>
                </a:lnTo>
                <a:lnTo>
                  <a:pt x="103018" y="67914"/>
                </a:lnTo>
                <a:lnTo>
                  <a:pt x="166688" y="67913"/>
                </a:lnTo>
                <a:lnTo>
                  <a:pt x="115178" y="109886"/>
                </a:lnTo>
                <a:lnTo>
                  <a:pt x="134853" y="177799"/>
                </a:lnTo>
                <a:lnTo>
                  <a:pt x="83344" y="135826"/>
                </a:lnTo>
                <a:lnTo>
                  <a:pt x="31835" y="177799"/>
                </a:lnTo>
                <a:lnTo>
                  <a:pt x="51510" y="10988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Object 12"/>
              <p:cNvSpPr txBox="1"/>
              <p:nvPr/>
            </p:nvSpPr>
            <p:spPr>
              <a:xfrm>
                <a:off x="6645240" y="3352680"/>
                <a:ext cx="6699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Object 13"/>
              <p:cNvSpPr txBox="1"/>
              <p:nvPr/>
            </p:nvSpPr>
            <p:spPr>
              <a:xfrm>
                <a:off x="7391520" y="4408560"/>
                <a:ext cx="6699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5" name="Parallelogram 57"/>
          <p:cNvSpPr/>
          <p:nvPr/>
        </p:nvSpPr>
        <p:spPr>
          <a:xfrm rot="12293400">
            <a:off x="5468400" y="3498120"/>
            <a:ext cx="2700360" cy="878040"/>
          </a:xfrm>
          <a:prstGeom prst="parallelogram">
            <a:avLst>
              <a:gd name="adj" fmla="val 211721"/>
            </a:avLst>
          </a:prstGeom>
          <a:solidFill>
            <a:srgbClr val="00cc99">
              <a:alpha val="37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169"/>
          <p:cNvSpPr/>
          <p:nvPr/>
        </p:nvSpPr>
        <p:spPr>
          <a:xfrm>
            <a:off x="4038480" y="3220920"/>
            <a:ext cx="11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241"/>
          <p:cNvSpPr/>
          <p:nvPr/>
        </p:nvSpPr>
        <p:spPr>
          <a:xfrm flipV="1">
            <a:off x="4191480" y="3830040"/>
            <a:ext cx="990000" cy="7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Object 14"/>
              <p:cNvSpPr txBox="1"/>
              <p:nvPr/>
            </p:nvSpPr>
            <p:spPr>
              <a:xfrm>
                <a:off x="4267080" y="3906720"/>
                <a:ext cx="594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earni separatori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04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i je od linearnih separatora optimala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V="1">
            <a:off x="2606760" y="282528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2471760" y="575136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46440" y="35812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071880" y="393876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3224160" y="4484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2843280" y="4941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3376440" y="3341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843280" y="42559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2995560" y="4408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3757680" y="4027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4659480" y="401472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4290840" y="4941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281560" y="4941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3973680" y="546264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4595760" y="43322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3973680" y="477684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4672080" y="51703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1"/>
          <p:cNvSpPr/>
          <p:nvPr/>
        </p:nvSpPr>
        <p:spPr>
          <a:xfrm>
            <a:off x="5357880" y="4255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 flipV="1">
            <a:off x="2919240" y="3048120"/>
            <a:ext cx="2676600" cy="24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3"/>
          <p:cNvSpPr/>
          <p:nvPr/>
        </p:nvSpPr>
        <p:spPr>
          <a:xfrm>
            <a:off x="3843360" y="27432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4"/>
          <p:cNvSpPr/>
          <p:nvPr/>
        </p:nvSpPr>
        <p:spPr>
          <a:xfrm>
            <a:off x="4452840" y="2819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5"/>
          <p:cNvSpPr/>
          <p:nvPr/>
        </p:nvSpPr>
        <p:spPr>
          <a:xfrm>
            <a:off x="5519880" y="3581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7"/>
          <p:cNvSpPr/>
          <p:nvPr/>
        </p:nvSpPr>
        <p:spPr>
          <a:xfrm flipV="1">
            <a:off x="3071880" y="2743200"/>
            <a:ext cx="2143080" cy="288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8"/>
          <p:cNvSpPr/>
          <p:nvPr/>
        </p:nvSpPr>
        <p:spPr>
          <a:xfrm flipV="1">
            <a:off x="2700360" y="3048120"/>
            <a:ext cx="297180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9"/>
          <p:cNvSpPr/>
          <p:nvPr/>
        </p:nvSpPr>
        <p:spPr>
          <a:xfrm flipV="1">
            <a:off x="3233880" y="2819160"/>
            <a:ext cx="182880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30"/>
          <p:cNvSpPr/>
          <p:nvPr/>
        </p:nvSpPr>
        <p:spPr>
          <a:xfrm flipV="1">
            <a:off x="3005280" y="2742840"/>
            <a:ext cx="182880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 flipV="1">
            <a:off x="2852640" y="2895120"/>
            <a:ext cx="266724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Glavne ideje SV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" name="TextBox 69"/>
          <p:cNvSpPr/>
          <p:nvPr/>
        </p:nvSpPr>
        <p:spPr>
          <a:xfrm>
            <a:off x="152280" y="45720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Naći linearnu granic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“h</a:t>
            </a: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rav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) </a:t>
            </a: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koja razdvaja klase pacijenata i ima najveće rastojan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“gap” </a:t>
            </a: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margin”)</a:t>
            </a: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 između graničnih pacijena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tj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support vector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3435120" y="1032840"/>
            <a:ext cx="2116440" cy="2558160"/>
            <a:chOff x="3435120" y="1032840"/>
            <a:chExt cx="2116440" cy="2558160"/>
          </a:xfrm>
        </p:grpSpPr>
        <p:sp>
          <p:nvSpPr>
            <p:cNvPr id="162" name="Straight Connector 12"/>
            <p:cNvSpPr/>
            <p:nvPr/>
          </p:nvSpPr>
          <p:spPr>
            <a:xfrm flipH="1">
              <a:off x="3435120" y="1255680"/>
              <a:ext cx="1322280" cy="2089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Straight Connector 13"/>
            <p:cNvSpPr/>
            <p:nvPr/>
          </p:nvSpPr>
          <p:spPr>
            <a:xfrm flipH="1">
              <a:off x="4297320" y="1623960"/>
              <a:ext cx="1208160" cy="1967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Straight Connector 14"/>
            <p:cNvSpPr/>
            <p:nvPr/>
          </p:nvSpPr>
          <p:spPr>
            <a:xfrm flipH="1">
              <a:off x="3895200" y="1563480"/>
              <a:ext cx="1149480" cy="1903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5"/>
            <p:cNvSpPr/>
            <p:nvPr/>
          </p:nvSpPr>
          <p:spPr>
            <a:xfrm rot="1543800">
              <a:off x="4937040" y="113940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a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Straight Arrow Connector 16"/>
            <p:cNvCxnSpPr/>
            <p:nvPr/>
          </p:nvCxnSpPr>
          <p:spPr>
            <a:xfrm>
              <a:off x="4757400" y="1255320"/>
              <a:ext cx="748440" cy="369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</p:grpSp>
      <p:cxnSp>
        <p:nvCxnSpPr>
          <p:cNvPr id="167" name="Straight Arrow Connector 17"/>
          <p:cNvCxnSpPr/>
          <p:nvPr/>
        </p:nvCxnSpPr>
        <p:spPr>
          <a:xfrm flipV="1">
            <a:off x="2514600" y="1561320"/>
            <a:ext cx="2160" cy="2477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68" name="Straight Arrow Connector 18"/>
          <p:cNvCxnSpPr/>
          <p:nvPr/>
        </p:nvCxnSpPr>
        <p:spPr>
          <a:xfrm>
            <a:off x="2514240" y="4038120"/>
            <a:ext cx="4026600" cy="25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69" name="5-Point Star 19"/>
          <p:cNvSpPr/>
          <p:nvPr/>
        </p:nvSpPr>
        <p:spPr>
          <a:xfrm>
            <a:off x="2975040" y="2421000"/>
            <a:ext cx="171360" cy="185760"/>
          </a:xfrm>
          <a:custGeom>
            <a:avLst/>
            <a:gdLst>
              <a:gd name="textAreaLeft" fmla="*/ 52920 w 171360"/>
              <a:gd name="textAreaRight" fmla="*/ 118440 w 171360"/>
              <a:gd name="textAreaTop" fmla="*/ 70920 h 185760"/>
              <a:gd name="textAreaBottom" fmla="*/ 141840 h 185760"/>
            </a:gdLst>
            <a:ahLst/>
            <a:rect l="textAreaLeft" t="textAreaTop" r="textAreaRight" b="textAreaBottom"/>
            <a:pathLst>
              <a:path w="171450" h="185737">
                <a:moveTo>
                  <a:pt x="0" y="70945"/>
                </a:moveTo>
                <a:lnTo>
                  <a:pt x="65488" y="70946"/>
                </a:lnTo>
                <a:lnTo>
                  <a:pt x="85725" y="0"/>
                </a:lnTo>
                <a:lnTo>
                  <a:pt x="105962" y="70946"/>
                </a:lnTo>
                <a:lnTo>
                  <a:pt x="171450" y="70945"/>
                </a:lnTo>
                <a:lnTo>
                  <a:pt x="118468" y="114791"/>
                </a:lnTo>
                <a:lnTo>
                  <a:pt x="138706" y="185736"/>
                </a:lnTo>
                <a:lnTo>
                  <a:pt x="85725" y="141889"/>
                </a:lnTo>
                <a:lnTo>
                  <a:pt x="32744" y="185736"/>
                </a:lnTo>
                <a:lnTo>
                  <a:pt x="52982" y="114791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5-Point Star 20"/>
          <p:cNvSpPr/>
          <p:nvPr/>
        </p:nvSpPr>
        <p:spPr>
          <a:xfrm>
            <a:off x="3089160" y="1868400"/>
            <a:ext cx="173160" cy="184320"/>
          </a:xfrm>
          <a:custGeom>
            <a:avLst/>
            <a:gdLst>
              <a:gd name="textAreaLeft" fmla="*/ 53280 w 173160"/>
              <a:gd name="textAreaRight" fmla="*/ 119880 w 173160"/>
              <a:gd name="textAreaTop" fmla="*/ 70200 h 184320"/>
              <a:gd name="textAreaBottom" fmla="*/ 140760 h 184320"/>
            </a:gdLst>
            <a:ahLst/>
            <a:rect l="textAreaLeft" t="textAreaTop" r="textAreaRight" b="textAreaBottom"/>
            <a:pathLst>
              <a:path w="173038" h="184150">
                <a:moveTo>
                  <a:pt x="0" y="70339"/>
                </a:moveTo>
                <a:lnTo>
                  <a:pt x="66095" y="70339"/>
                </a:lnTo>
                <a:lnTo>
                  <a:pt x="86519" y="0"/>
                </a:lnTo>
                <a:lnTo>
                  <a:pt x="106943" y="70339"/>
                </a:lnTo>
                <a:lnTo>
                  <a:pt x="173038" y="70339"/>
                </a:lnTo>
                <a:lnTo>
                  <a:pt x="119566" y="113810"/>
                </a:lnTo>
                <a:lnTo>
                  <a:pt x="139991" y="184149"/>
                </a:lnTo>
                <a:lnTo>
                  <a:pt x="86519" y="140677"/>
                </a:lnTo>
                <a:lnTo>
                  <a:pt x="33047" y="184149"/>
                </a:lnTo>
                <a:lnTo>
                  <a:pt x="5347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5-Point Star 21"/>
          <p:cNvSpPr/>
          <p:nvPr/>
        </p:nvSpPr>
        <p:spPr>
          <a:xfrm>
            <a:off x="2859120" y="2176560"/>
            <a:ext cx="173160" cy="183960"/>
          </a:xfrm>
          <a:custGeom>
            <a:avLst/>
            <a:gdLst>
              <a:gd name="textAreaLeft" fmla="*/ 53280 w 173160"/>
              <a:gd name="textAreaRight" fmla="*/ 119880 w 173160"/>
              <a:gd name="textAreaTop" fmla="*/ 70200 h 183960"/>
              <a:gd name="textAreaBottom" fmla="*/ 140760 h 183960"/>
            </a:gdLst>
            <a:ahLst/>
            <a:rect l="textAreaLeft" t="textAreaTop" r="textAreaRight" b="textAreaBottom"/>
            <a:pathLst>
              <a:path w="173037" h="184150">
                <a:moveTo>
                  <a:pt x="0" y="70339"/>
                </a:moveTo>
                <a:lnTo>
                  <a:pt x="66095" y="70339"/>
                </a:lnTo>
                <a:lnTo>
                  <a:pt x="86519" y="0"/>
                </a:lnTo>
                <a:lnTo>
                  <a:pt x="106942" y="70339"/>
                </a:lnTo>
                <a:lnTo>
                  <a:pt x="173037" y="70339"/>
                </a:lnTo>
                <a:lnTo>
                  <a:pt x="119565" y="113810"/>
                </a:lnTo>
                <a:lnTo>
                  <a:pt x="139990" y="184149"/>
                </a:lnTo>
                <a:lnTo>
                  <a:pt x="86519" y="140677"/>
                </a:lnTo>
                <a:lnTo>
                  <a:pt x="33047" y="184149"/>
                </a:lnTo>
                <a:lnTo>
                  <a:pt x="5347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5-Point Star 22"/>
          <p:cNvSpPr/>
          <p:nvPr/>
        </p:nvSpPr>
        <p:spPr>
          <a:xfrm>
            <a:off x="3376440" y="2114640"/>
            <a:ext cx="173160" cy="183960"/>
          </a:xfrm>
          <a:custGeom>
            <a:avLst/>
            <a:gdLst>
              <a:gd name="textAreaLeft" fmla="*/ 53280 w 173160"/>
              <a:gd name="textAreaRight" fmla="*/ 119880 w 173160"/>
              <a:gd name="textAreaTop" fmla="*/ 70200 h 183960"/>
              <a:gd name="textAreaBottom" fmla="*/ 140760 h 183960"/>
            </a:gdLst>
            <a:ahLst/>
            <a:rect l="textAreaLeft" t="textAreaTop" r="textAreaRight" b="textAreaBottom"/>
            <a:pathLst>
              <a:path w="173037" h="184150">
                <a:moveTo>
                  <a:pt x="0" y="70339"/>
                </a:moveTo>
                <a:lnTo>
                  <a:pt x="66095" y="70339"/>
                </a:lnTo>
                <a:lnTo>
                  <a:pt x="86519" y="0"/>
                </a:lnTo>
                <a:lnTo>
                  <a:pt x="106942" y="70339"/>
                </a:lnTo>
                <a:lnTo>
                  <a:pt x="173037" y="70339"/>
                </a:lnTo>
                <a:lnTo>
                  <a:pt x="119565" y="113810"/>
                </a:lnTo>
                <a:lnTo>
                  <a:pt x="139990" y="184149"/>
                </a:lnTo>
                <a:lnTo>
                  <a:pt x="86519" y="140677"/>
                </a:lnTo>
                <a:lnTo>
                  <a:pt x="33047" y="184149"/>
                </a:lnTo>
                <a:lnTo>
                  <a:pt x="5347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5-Point Star 23"/>
          <p:cNvSpPr/>
          <p:nvPr/>
        </p:nvSpPr>
        <p:spPr>
          <a:xfrm>
            <a:off x="3549600" y="2482920"/>
            <a:ext cx="173160" cy="183960"/>
          </a:xfrm>
          <a:custGeom>
            <a:avLst/>
            <a:gdLst>
              <a:gd name="textAreaLeft" fmla="*/ 53280 w 173160"/>
              <a:gd name="textAreaRight" fmla="*/ 119880 w 173160"/>
              <a:gd name="textAreaTop" fmla="*/ 70200 h 183960"/>
              <a:gd name="textAreaBottom" fmla="*/ 140760 h 183960"/>
            </a:gdLst>
            <a:ahLst/>
            <a:rect l="textAreaLeft" t="textAreaTop" r="textAreaRight" b="textAreaBottom"/>
            <a:pathLst>
              <a:path w="173038" h="184150">
                <a:moveTo>
                  <a:pt x="0" y="70339"/>
                </a:moveTo>
                <a:lnTo>
                  <a:pt x="66095" y="70339"/>
                </a:lnTo>
                <a:lnTo>
                  <a:pt x="86519" y="0"/>
                </a:lnTo>
                <a:lnTo>
                  <a:pt x="106943" y="70339"/>
                </a:lnTo>
                <a:lnTo>
                  <a:pt x="173038" y="70339"/>
                </a:lnTo>
                <a:lnTo>
                  <a:pt x="119566" y="113810"/>
                </a:lnTo>
                <a:lnTo>
                  <a:pt x="139991" y="184149"/>
                </a:lnTo>
                <a:lnTo>
                  <a:pt x="86519" y="140677"/>
                </a:lnTo>
                <a:lnTo>
                  <a:pt x="33047" y="184149"/>
                </a:lnTo>
                <a:lnTo>
                  <a:pt x="5347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-Point Star 24"/>
          <p:cNvSpPr/>
          <p:nvPr/>
        </p:nvSpPr>
        <p:spPr>
          <a:xfrm>
            <a:off x="2917800" y="2790720"/>
            <a:ext cx="171360" cy="184320"/>
          </a:xfrm>
          <a:custGeom>
            <a:avLst/>
            <a:gdLst>
              <a:gd name="textAreaLeft" fmla="*/ 52920 w 171360"/>
              <a:gd name="textAreaRight" fmla="*/ 118440 w 171360"/>
              <a:gd name="textAreaTop" fmla="*/ 70200 h 184320"/>
              <a:gd name="textAreaBottom" fmla="*/ 140760 h 184320"/>
            </a:gdLst>
            <a:ahLst/>
            <a:rect l="textAreaLeft" t="textAreaTop" r="textAreaRight" b="textAreaBottom"/>
            <a:pathLst>
              <a:path w="171450" h="184150">
                <a:moveTo>
                  <a:pt x="0" y="70339"/>
                </a:moveTo>
                <a:lnTo>
                  <a:pt x="65488" y="70339"/>
                </a:lnTo>
                <a:lnTo>
                  <a:pt x="85725" y="0"/>
                </a:lnTo>
                <a:lnTo>
                  <a:pt x="105962" y="70339"/>
                </a:lnTo>
                <a:lnTo>
                  <a:pt x="171450" y="70339"/>
                </a:lnTo>
                <a:lnTo>
                  <a:pt x="118468" y="113810"/>
                </a:lnTo>
                <a:lnTo>
                  <a:pt x="138706" y="184149"/>
                </a:lnTo>
                <a:lnTo>
                  <a:pt x="85725" y="140677"/>
                </a:lnTo>
                <a:lnTo>
                  <a:pt x="32744" y="184149"/>
                </a:lnTo>
                <a:lnTo>
                  <a:pt x="5298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-Point Star 25"/>
          <p:cNvSpPr/>
          <p:nvPr/>
        </p:nvSpPr>
        <p:spPr>
          <a:xfrm>
            <a:off x="3146400" y="2236680"/>
            <a:ext cx="173160" cy="184320"/>
          </a:xfrm>
          <a:custGeom>
            <a:avLst/>
            <a:gdLst>
              <a:gd name="textAreaLeft" fmla="*/ 53280 w 173160"/>
              <a:gd name="textAreaRight" fmla="*/ 119880 w 173160"/>
              <a:gd name="textAreaTop" fmla="*/ 70200 h 184320"/>
              <a:gd name="textAreaBottom" fmla="*/ 140760 h 184320"/>
            </a:gdLst>
            <a:ahLst/>
            <a:rect l="textAreaLeft" t="textAreaTop" r="textAreaRight" b="textAreaBottom"/>
            <a:pathLst>
              <a:path w="173038" h="184150">
                <a:moveTo>
                  <a:pt x="0" y="70339"/>
                </a:moveTo>
                <a:lnTo>
                  <a:pt x="66095" y="70339"/>
                </a:lnTo>
                <a:lnTo>
                  <a:pt x="86519" y="0"/>
                </a:lnTo>
                <a:lnTo>
                  <a:pt x="106943" y="70339"/>
                </a:lnTo>
                <a:lnTo>
                  <a:pt x="173038" y="70339"/>
                </a:lnTo>
                <a:lnTo>
                  <a:pt x="119566" y="113810"/>
                </a:lnTo>
                <a:lnTo>
                  <a:pt x="139991" y="184149"/>
                </a:lnTo>
                <a:lnTo>
                  <a:pt x="86519" y="140677"/>
                </a:lnTo>
                <a:lnTo>
                  <a:pt x="33047" y="184149"/>
                </a:lnTo>
                <a:lnTo>
                  <a:pt x="5347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5-Point Star 26"/>
          <p:cNvSpPr/>
          <p:nvPr/>
        </p:nvSpPr>
        <p:spPr>
          <a:xfrm>
            <a:off x="3549600" y="1868400"/>
            <a:ext cx="173160" cy="184320"/>
          </a:xfrm>
          <a:custGeom>
            <a:avLst/>
            <a:gdLst>
              <a:gd name="textAreaLeft" fmla="*/ 53280 w 173160"/>
              <a:gd name="textAreaRight" fmla="*/ 119880 w 173160"/>
              <a:gd name="textAreaTop" fmla="*/ 70200 h 184320"/>
              <a:gd name="textAreaBottom" fmla="*/ 140760 h 184320"/>
            </a:gdLst>
            <a:ahLst/>
            <a:rect l="textAreaLeft" t="textAreaTop" r="textAreaRight" b="textAreaBottom"/>
            <a:pathLst>
              <a:path w="173038" h="184150">
                <a:moveTo>
                  <a:pt x="0" y="70339"/>
                </a:moveTo>
                <a:lnTo>
                  <a:pt x="66095" y="70339"/>
                </a:lnTo>
                <a:lnTo>
                  <a:pt x="86519" y="0"/>
                </a:lnTo>
                <a:lnTo>
                  <a:pt x="106943" y="70339"/>
                </a:lnTo>
                <a:lnTo>
                  <a:pt x="173038" y="70339"/>
                </a:lnTo>
                <a:lnTo>
                  <a:pt x="119566" y="113810"/>
                </a:lnTo>
                <a:lnTo>
                  <a:pt x="139991" y="184149"/>
                </a:lnTo>
                <a:lnTo>
                  <a:pt x="86519" y="140677"/>
                </a:lnTo>
                <a:lnTo>
                  <a:pt x="33047" y="184149"/>
                </a:lnTo>
                <a:lnTo>
                  <a:pt x="5347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5-Point Star 27"/>
          <p:cNvSpPr/>
          <p:nvPr/>
        </p:nvSpPr>
        <p:spPr>
          <a:xfrm>
            <a:off x="3606840" y="2114640"/>
            <a:ext cx="173160" cy="183960"/>
          </a:xfrm>
          <a:custGeom>
            <a:avLst/>
            <a:gdLst>
              <a:gd name="textAreaLeft" fmla="*/ 53280 w 173160"/>
              <a:gd name="textAreaRight" fmla="*/ 119880 w 173160"/>
              <a:gd name="textAreaTop" fmla="*/ 70200 h 183960"/>
              <a:gd name="textAreaBottom" fmla="*/ 140760 h 183960"/>
            </a:gdLst>
            <a:ahLst/>
            <a:rect l="textAreaLeft" t="textAreaTop" r="textAreaRight" b="textAreaBottom"/>
            <a:pathLst>
              <a:path w="173038" h="184150">
                <a:moveTo>
                  <a:pt x="0" y="70339"/>
                </a:moveTo>
                <a:lnTo>
                  <a:pt x="66095" y="70339"/>
                </a:lnTo>
                <a:lnTo>
                  <a:pt x="86519" y="0"/>
                </a:lnTo>
                <a:lnTo>
                  <a:pt x="106943" y="70339"/>
                </a:lnTo>
                <a:lnTo>
                  <a:pt x="173038" y="70339"/>
                </a:lnTo>
                <a:lnTo>
                  <a:pt x="119566" y="113810"/>
                </a:lnTo>
                <a:lnTo>
                  <a:pt x="139991" y="184149"/>
                </a:lnTo>
                <a:lnTo>
                  <a:pt x="86519" y="140677"/>
                </a:lnTo>
                <a:lnTo>
                  <a:pt x="33047" y="184149"/>
                </a:lnTo>
                <a:lnTo>
                  <a:pt x="5347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5-Point Star 28"/>
          <p:cNvSpPr/>
          <p:nvPr/>
        </p:nvSpPr>
        <p:spPr>
          <a:xfrm>
            <a:off x="2687760" y="2482920"/>
            <a:ext cx="171360" cy="183960"/>
          </a:xfrm>
          <a:custGeom>
            <a:avLst/>
            <a:gdLst>
              <a:gd name="textAreaLeft" fmla="*/ 52920 w 171360"/>
              <a:gd name="textAreaRight" fmla="*/ 118440 w 171360"/>
              <a:gd name="textAreaTop" fmla="*/ 70200 h 183960"/>
              <a:gd name="textAreaBottom" fmla="*/ 140760 h 183960"/>
            </a:gdLst>
            <a:ahLst/>
            <a:rect l="textAreaLeft" t="textAreaTop" r="textAreaRight" b="textAreaBottom"/>
            <a:pathLst>
              <a:path w="171450" h="184150">
                <a:moveTo>
                  <a:pt x="0" y="70339"/>
                </a:moveTo>
                <a:lnTo>
                  <a:pt x="65488" y="70339"/>
                </a:lnTo>
                <a:lnTo>
                  <a:pt x="85725" y="0"/>
                </a:lnTo>
                <a:lnTo>
                  <a:pt x="105962" y="70339"/>
                </a:lnTo>
                <a:lnTo>
                  <a:pt x="171450" y="70339"/>
                </a:lnTo>
                <a:lnTo>
                  <a:pt x="118468" y="113810"/>
                </a:lnTo>
                <a:lnTo>
                  <a:pt x="138706" y="184149"/>
                </a:lnTo>
                <a:lnTo>
                  <a:pt x="85725" y="140677"/>
                </a:lnTo>
                <a:lnTo>
                  <a:pt x="32744" y="184149"/>
                </a:lnTo>
                <a:lnTo>
                  <a:pt x="5298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5-Point Star 29"/>
          <p:cNvSpPr/>
          <p:nvPr/>
        </p:nvSpPr>
        <p:spPr>
          <a:xfrm>
            <a:off x="3262320" y="2790720"/>
            <a:ext cx="173160" cy="184320"/>
          </a:xfrm>
          <a:custGeom>
            <a:avLst/>
            <a:gdLst>
              <a:gd name="textAreaLeft" fmla="*/ 53280 w 173160"/>
              <a:gd name="textAreaRight" fmla="*/ 119880 w 173160"/>
              <a:gd name="textAreaTop" fmla="*/ 70200 h 184320"/>
              <a:gd name="textAreaBottom" fmla="*/ 140760 h 184320"/>
            </a:gdLst>
            <a:ahLst/>
            <a:rect l="textAreaLeft" t="textAreaTop" r="textAreaRight" b="textAreaBottom"/>
            <a:pathLst>
              <a:path w="173037" h="184150">
                <a:moveTo>
                  <a:pt x="0" y="70339"/>
                </a:moveTo>
                <a:lnTo>
                  <a:pt x="66095" y="70339"/>
                </a:lnTo>
                <a:lnTo>
                  <a:pt x="86519" y="0"/>
                </a:lnTo>
                <a:lnTo>
                  <a:pt x="106942" y="70339"/>
                </a:lnTo>
                <a:lnTo>
                  <a:pt x="173037" y="70339"/>
                </a:lnTo>
                <a:lnTo>
                  <a:pt x="119565" y="113810"/>
                </a:lnTo>
                <a:lnTo>
                  <a:pt x="139990" y="184149"/>
                </a:lnTo>
                <a:lnTo>
                  <a:pt x="86519" y="140677"/>
                </a:lnTo>
                <a:lnTo>
                  <a:pt x="33047" y="184149"/>
                </a:lnTo>
                <a:lnTo>
                  <a:pt x="5347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5-Point Star 30"/>
          <p:cNvSpPr/>
          <p:nvPr/>
        </p:nvSpPr>
        <p:spPr>
          <a:xfrm>
            <a:off x="3089160" y="2606760"/>
            <a:ext cx="173160" cy="183960"/>
          </a:xfrm>
          <a:custGeom>
            <a:avLst/>
            <a:gdLst>
              <a:gd name="textAreaLeft" fmla="*/ 53280 w 173160"/>
              <a:gd name="textAreaRight" fmla="*/ 119880 w 173160"/>
              <a:gd name="textAreaTop" fmla="*/ 70200 h 183960"/>
              <a:gd name="textAreaBottom" fmla="*/ 140760 h 183960"/>
            </a:gdLst>
            <a:ahLst/>
            <a:rect l="textAreaLeft" t="textAreaTop" r="textAreaRight" b="textAreaBottom"/>
            <a:pathLst>
              <a:path w="173038" h="184150">
                <a:moveTo>
                  <a:pt x="0" y="70339"/>
                </a:moveTo>
                <a:lnTo>
                  <a:pt x="66095" y="70339"/>
                </a:lnTo>
                <a:lnTo>
                  <a:pt x="86519" y="0"/>
                </a:lnTo>
                <a:lnTo>
                  <a:pt x="106943" y="70339"/>
                </a:lnTo>
                <a:lnTo>
                  <a:pt x="173038" y="70339"/>
                </a:lnTo>
                <a:lnTo>
                  <a:pt x="119566" y="113810"/>
                </a:lnTo>
                <a:lnTo>
                  <a:pt x="139991" y="184149"/>
                </a:lnTo>
                <a:lnTo>
                  <a:pt x="86519" y="140677"/>
                </a:lnTo>
                <a:lnTo>
                  <a:pt x="33047" y="184149"/>
                </a:lnTo>
                <a:lnTo>
                  <a:pt x="5347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5505480" y="2544840"/>
            <a:ext cx="114120" cy="122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4987800" y="2790720"/>
            <a:ext cx="114480" cy="122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33"/>
          <p:cNvSpPr/>
          <p:nvPr/>
        </p:nvSpPr>
        <p:spPr>
          <a:xfrm>
            <a:off x="5275440" y="2913120"/>
            <a:ext cx="114120" cy="122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5619600" y="2298600"/>
            <a:ext cx="115920" cy="122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35"/>
          <p:cNvSpPr/>
          <p:nvPr/>
        </p:nvSpPr>
        <p:spPr>
          <a:xfrm>
            <a:off x="5735520" y="2851200"/>
            <a:ext cx="114480" cy="123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6"/>
          <p:cNvSpPr/>
          <p:nvPr/>
        </p:nvSpPr>
        <p:spPr>
          <a:xfrm>
            <a:off x="5792760" y="2544840"/>
            <a:ext cx="114480" cy="122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37"/>
          <p:cNvSpPr/>
          <p:nvPr/>
        </p:nvSpPr>
        <p:spPr>
          <a:xfrm>
            <a:off x="5332320" y="2666880"/>
            <a:ext cx="114480" cy="123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38"/>
          <p:cNvSpPr/>
          <p:nvPr/>
        </p:nvSpPr>
        <p:spPr>
          <a:xfrm>
            <a:off x="5389560" y="2360520"/>
            <a:ext cx="115920" cy="122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39"/>
          <p:cNvSpPr/>
          <p:nvPr/>
        </p:nvSpPr>
        <p:spPr>
          <a:xfrm>
            <a:off x="4815000" y="2913120"/>
            <a:ext cx="114120" cy="122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40"/>
          <p:cNvSpPr/>
          <p:nvPr/>
        </p:nvSpPr>
        <p:spPr>
          <a:xfrm>
            <a:off x="5045040" y="3097080"/>
            <a:ext cx="114480" cy="123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41"/>
          <p:cNvSpPr/>
          <p:nvPr/>
        </p:nvSpPr>
        <p:spPr>
          <a:xfrm>
            <a:off x="5446800" y="3035160"/>
            <a:ext cx="115920" cy="123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42"/>
          <p:cNvSpPr/>
          <p:nvPr/>
        </p:nvSpPr>
        <p:spPr>
          <a:xfrm>
            <a:off x="5562720" y="2790720"/>
            <a:ext cx="114120" cy="122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3"/>
          <p:cNvSpPr/>
          <p:nvPr/>
        </p:nvSpPr>
        <p:spPr>
          <a:xfrm>
            <a:off x="4584600" y="2976480"/>
            <a:ext cx="115920" cy="122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44"/>
          <p:cNvSpPr/>
          <p:nvPr/>
        </p:nvSpPr>
        <p:spPr>
          <a:xfrm>
            <a:off x="4871880" y="2482920"/>
            <a:ext cx="115920" cy="123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45"/>
          <p:cNvSpPr/>
          <p:nvPr/>
        </p:nvSpPr>
        <p:spPr>
          <a:xfrm>
            <a:off x="5159520" y="2482920"/>
            <a:ext cx="115920" cy="123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46"/>
          <p:cNvSpPr/>
          <p:nvPr/>
        </p:nvSpPr>
        <p:spPr>
          <a:xfrm>
            <a:off x="5964120" y="2975040"/>
            <a:ext cx="115920" cy="122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47"/>
          <p:cNvSpPr/>
          <p:nvPr/>
        </p:nvSpPr>
        <p:spPr>
          <a:xfrm>
            <a:off x="5676840" y="3281400"/>
            <a:ext cx="115920" cy="123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48"/>
          <p:cNvSpPr/>
          <p:nvPr/>
        </p:nvSpPr>
        <p:spPr>
          <a:xfrm>
            <a:off x="5964120" y="2666880"/>
            <a:ext cx="115920" cy="123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49"/>
          <p:cNvSpPr/>
          <p:nvPr/>
        </p:nvSpPr>
        <p:spPr>
          <a:xfrm>
            <a:off x="5389560" y="3343320"/>
            <a:ext cx="115920" cy="122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ight Brace 50"/>
          <p:cNvSpPr/>
          <p:nvPr/>
        </p:nvSpPr>
        <p:spPr>
          <a:xfrm rot="5400000">
            <a:off x="5326920" y="2728080"/>
            <a:ext cx="184320" cy="1782720"/>
          </a:xfrm>
          <a:custGeom>
            <a:avLst/>
            <a:gdLst>
              <a:gd name="textAreaLeft" fmla="*/ 0 w 184320"/>
              <a:gd name="textAreaRight" fmla="*/ 66600 w 184320"/>
              <a:gd name="textAreaTop" fmla="*/ 4680 h 1782720"/>
              <a:gd name="textAreaBottom" fmla="*/ 1778040 h 17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3"/>
                  <a:pt x="10800" y="186"/>
                </a:cubicBezTo>
                <a:lnTo>
                  <a:pt x="10800" y="10614"/>
                </a:lnTo>
                <a:cubicBezTo>
                  <a:pt x="10800" y="10707"/>
                  <a:pt x="16200" y="10800"/>
                  <a:pt x="21600" y="10800"/>
                </a:cubicBezTo>
                <a:cubicBezTo>
                  <a:pt x="16200" y="10800"/>
                  <a:pt x="10800" y="10893"/>
                  <a:pt x="10800" y="10986"/>
                </a:cubicBezTo>
                <a:lnTo>
                  <a:pt x="10800" y="21414"/>
                </a:lnTo>
                <a:cubicBezTo>
                  <a:pt x="10800" y="215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51"/>
          <p:cNvSpPr/>
          <p:nvPr/>
        </p:nvSpPr>
        <p:spPr>
          <a:xfrm>
            <a:off x="4844880" y="371160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cer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ight Brace 52"/>
          <p:cNvSpPr/>
          <p:nvPr/>
        </p:nvSpPr>
        <p:spPr>
          <a:xfrm rot="5400000">
            <a:off x="3255480" y="2958840"/>
            <a:ext cx="185760" cy="1322280"/>
          </a:xfrm>
          <a:custGeom>
            <a:avLst/>
            <a:gdLst>
              <a:gd name="textAreaLeft" fmla="*/ 0 w 185760"/>
              <a:gd name="textAreaRight" fmla="*/ 66960 w 185760"/>
              <a:gd name="textAreaTop" fmla="*/ 4680 h 1322280"/>
              <a:gd name="textAreaBottom" fmla="*/ 1317600 h 132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7"/>
                  <a:pt x="10800" y="253"/>
                </a:cubicBezTo>
                <a:lnTo>
                  <a:pt x="10800" y="10547"/>
                </a:lnTo>
                <a:cubicBezTo>
                  <a:pt x="10800" y="10674"/>
                  <a:pt x="16200" y="10800"/>
                  <a:pt x="21600" y="10800"/>
                </a:cubicBezTo>
                <a:cubicBezTo>
                  <a:pt x="16200" y="10800"/>
                  <a:pt x="10800" y="10927"/>
                  <a:pt x="10800" y="11053"/>
                </a:cubicBezTo>
                <a:lnTo>
                  <a:pt x="10800" y="21347"/>
                </a:lnTo>
                <a:cubicBezTo>
                  <a:pt x="10800" y="214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53"/>
          <p:cNvSpPr/>
          <p:nvPr/>
        </p:nvSpPr>
        <p:spPr>
          <a:xfrm>
            <a:off x="2847240" y="3711600"/>
            <a:ext cx="148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5-Point Star 54"/>
          <p:cNvSpPr/>
          <p:nvPr/>
        </p:nvSpPr>
        <p:spPr>
          <a:xfrm>
            <a:off x="3262320" y="1684440"/>
            <a:ext cx="173160" cy="183960"/>
          </a:xfrm>
          <a:custGeom>
            <a:avLst/>
            <a:gdLst>
              <a:gd name="textAreaLeft" fmla="*/ 53280 w 173160"/>
              <a:gd name="textAreaRight" fmla="*/ 119880 w 173160"/>
              <a:gd name="textAreaTop" fmla="*/ 70200 h 183960"/>
              <a:gd name="textAreaBottom" fmla="*/ 140760 h 183960"/>
            </a:gdLst>
            <a:ahLst/>
            <a:rect l="textAreaLeft" t="textAreaTop" r="textAreaRight" b="textAreaBottom"/>
            <a:pathLst>
              <a:path w="173037" h="184150">
                <a:moveTo>
                  <a:pt x="0" y="70339"/>
                </a:moveTo>
                <a:lnTo>
                  <a:pt x="66095" y="70339"/>
                </a:lnTo>
                <a:lnTo>
                  <a:pt x="86519" y="0"/>
                </a:lnTo>
                <a:lnTo>
                  <a:pt x="106942" y="70339"/>
                </a:lnTo>
                <a:lnTo>
                  <a:pt x="173037" y="70339"/>
                </a:lnTo>
                <a:lnTo>
                  <a:pt x="119565" y="113810"/>
                </a:lnTo>
                <a:lnTo>
                  <a:pt x="139990" y="184149"/>
                </a:lnTo>
                <a:lnTo>
                  <a:pt x="86519" y="140677"/>
                </a:lnTo>
                <a:lnTo>
                  <a:pt x="33047" y="184149"/>
                </a:lnTo>
                <a:lnTo>
                  <a:pt x="5347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5-Point Star 55"/>
          <p:cNvSpPr/>
          <p:nvPr/>
        </p:nvSpPr>
        <p:spPr>
          <a:xfrm>
            <a:off x="3836880" y="1930320"/>
            <a:ext cx="173160" cy="184320"/>
          </a:xfrm>
          <a:custGeom>
            <a:avLst/>
            <a:gdLst>
              <a:gd name="textAreaLeft" fmla="*/ 53280 w 173160"/>
              <a:gd name="textAreaRight" fmla="*/ 119880 w 173160"/>
              <a:gd name="textAreaTop" fmla="*/ 70200 h 184320"/>
              <a:gd name="textAreaBottom" fmla="*/ 140760 h 184320"/>
            </a:gdLst>
            <a:ahLst/>
            <a:rect l="textAreaLeft" t="textAreaTop" r="textAreaRight" b="textAreaBottom"/>
            <a:pathLst>
              <a:path w="173037" h="184150">
                <a:moveTo>
                  <a:pt x="0" y="70339"/>
                </a:moveTo>
                <a:lnTo>
                  <a:pt x="66095" y="70339"/>
                </a:lnTo>
                <a:lnTo>
                  <a:pt x="86519" y="0"/>
                </a:lnTo>
                <a:lnTo>
                  <a:pt x="106942" y="70339"/>
                </a:lnTo>
                <a:lnTo>
                  <a:pt x="173037" y="70339"/>
                </a:lnTo>
                <a:lnTo>
                  <a:pt x="119565" y="113810"/>
                </a:lnTo>
                <a:lnTo>
                  <a:pt x="139990" y="184149"/>
                </a:lnTo>
                <a:lnTo>
                  <a:pt x="86519" y="140677"/>
                </a:lnTo>
                <a:lnTo>
                  <a:pt x="33047" y="184149"/>
                </a:lnTo>
                <a:lnTo>
                  <a:pt x="5347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5-Point Star 56"/>
          <p:cNvSpPr/>
          <p:nvPr/>
        </p:nvSpPr>
        <p:spPr>
          <a:xfrm>
            <a:off x="3894120" y="2360520"/>
            <a:ext cx="173160" cy="184320"/>
          </a:xfrm>
          <a:custGeom>
            <a:avLst/>
            <a:gdLst>
              <a:gd name="textAreaLeft" fmla="*/ 53280 w 173160"/>
              <a:gd name="textAreaRight" fmla="*/ 119880 w 173160"/>
              <a:gd name="textAreaTop" fmla="*/ 70200 h 184320"/>
              <a:gd name="textAreaBottom" fmla="*/ 140760 h 184320"/>
            </a:gdLst>
            <a:ahLst/>
            <a:rect l="textAreaLeft" t="textAreaTop" r="textAreaRight" b="textAreaBottom"/>
            <a:pathLst>
              <a:path w="173037" h="184150">
                <a:moveTo>
                  <a:pt x="0" y="70339"/>
                </a:moveTo>
                <a:lnTo>
                  <a:pt x="66095" y="70339"/>
                </a:lnTo>
                <a:lnTo>
                  <a:pt x="86519" y="0"/>
                </a:lnTo>
                <a:lnTo>
                  <a:pt x="106942" y="70339"/>
                </a:lnTo>
                <a:lnTo>
                  <a:pt x="173037" y="70339"/>
                </a:lnTo>
                <a:lnTo>
                  <a:pt x="119565" y="113810"/>
                </a:lnTo>
                <a:lnTo>
                  <a:pt x="139990" y="184149"/>
                </a:lnTo>
                <a:lnTo>
                  <a:pt x="86519" y="140677"/>
                </a:lnTo>
                <a:lnTo>
                  <a:pt x="33047" y="184149"/>
                </a:lnTo>
                <a:lnTo>
                  <a:pt x="53472" y="11381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65"/>
          <p:cNvGrpSpPr/>
          <p:nvPr/>
        </p:nvGrpSpPr>
        <p:grpSpPr>
          <a:xfrm>
            <a:off x="3894120" y="2362320"/>
            <a:ext cx="1093680" cy="738000"/>
            <a:chOff x="3894120" y="2362320"/>
            <a:chExt cx="1093680" cy="738000"/>
          </a:xfrm>
        </p:grpSpPr>
        <p:sp>
          <p:nvSpPr>
            <p:cNvPr id="208" name="Oval 66"/>
            <p:cNvSpPr/>
            <p:nvPr/>
          </p:nvSpPr>
          <p:spPr>
            <a:xfrm>
              <a:off x="4584600" y="2978280"/>
              <a:ext cx="115560" cy="12204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67"/>
            <p:cNvSpPr/>
            <p:nvPr/>
          </p:nvSpPr>
          <p:spPr>
            <a:xfrm>
              <a:off x="4872240" y="2484360"/>
              <a:ext cx="115560" cy="12384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232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5-Point Star 68"/>
            <p:cNvSpPr/>
            <p:nvPr/>
          </p:nvSpPr>
          <p:spPr>
            <a:xfrm>
              <a:off x="3894120" y="2362320"/>
              <a:ext cx="172800" cy="183960"/>
            </a:xfrm>
            <a:custGeom>
              <a:avLst/>
              <a:gdLst>
                <a:gd name="textAreaLeft" fmla="*/ 53280 w 172800"/>
                <a:gd name="textAreaRight" fmla="*/ 119520 w 172800"/>
                <a:gd name="textAreaTop" fmla="*/ 70200 h 183960"/>
                <a:gd name="textAreaBottom" fmla="*/ 140760 h 183960"/>
              </a:gdLst>
              <a:ahLst/>
              <a:rect l="textAreaLeft" t="textAreaTop" r="textAreaRight" b="textAreaBottom"/>
              <a:pathLst>
                <a:path w="229042" h="228504">
                  <a:moveTo>
                    <a:pt x="0" y="87281"/>
                  </a:moveTo>
                  <a:lnTo>
                    <a:pt x="87487" y="87281"/>
                  </a:lnTo>
                  <a:lnTo>
                    <a:pt x="114521" y="0"/>
                  </a:lnTo>
                  <a:lnTo>
                    <a:pt x="141555" y="87281"/>
                  </a:lnTo>
                  <a:lnTo>
                    <a:pt x="229042" y="87281"/>
                  </a:lnTo>
                  <a:lnTo>
                    <a:pt x="158263" y="141223"/>
                  </a:lnTo>
                  <a:lnTo>
                    <a:pt x="185299" y="228503"/>
                  </a:lnTo>
                  <a:lnTo>
                    <a:pt x="114521" y="174560"/>
                  </a:lnTo>
                  <a:lnTo>
                    <a:pt x="43743" y="228503"/>
                  </a:lnTo>
                  <a:lnTo>
                    <a:pt x="70779" y="141223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95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TextBox 70"/>
          <p:cNvSpPr/>
          <p:nvPr/>
        </p:nvSpPr>
        <p:spPr>
          <a:xfrm>
            <a:off x="6444720" y="388620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71"/>
          <p:cNvSpPr/>
          <p:nvPr/>
        </p:nvSpPr>
        <p:spPr>
          <a:xfrm>
            <a:off x="1968120" y="121932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Glavne ideje SVM (2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3FD3-B883-4CE3-A265-56EEC05B11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69"/>
          <p:cNvSpPr/>
          <p:nvPr/>
        </p:nvSpPr>
        <p:spPr>
          <a:xfrm>
            <a:off x="152280" y="4614840"/>
            <a:ext cx="883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Ako ne postoji linearna gran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podaci se preslikaju u prostor veće dimenzije u kojem postoji linearna granica, pomoću dovitljive matematičke konstrukci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“kernel trick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90"/>
          <p:cNvSpPr/>
          <p:nvPr/>
        </p:nvSpPr>
        <p:spPr>
          <a:xfrm>
            <a:off x="412920" y="1389240"/>
            <a:ext cx="0" cy="280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91"/>
          <p:cNvSpPr/>
          <p:nvPr/>
        </p:nvSpPr>
        <p:spPr>
          <a:xfrm>
            <a:off x="41292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2"/>
          <p:cNvSpPr/>
          <p:nvPr/>
        </p:nvSpPr>
        <p:spPr>
          <a:xfrm>
            <a:off x="2108160" y="2276640"/>
            <a:ext cx="10008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93"/>
          <p:cNvSpPr/>
          <p:nvPr/>
        </p:nvSpPr>
        <p:spPr>
          <a:xfrm>
            <a:off x="2386080" y="2338560"/>
            <a:ext cx="101520" cy="8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94"/>
          <p:cNvSpPr/>
          <p:nvPr/>
        </p:nvSpPr>
        <p:spPr>
          <a:xfrm>
            <a:off x="2386080" y="2525760"/>
            <a:ext cx="10152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95"/>
          <p:cNvSpPr/>
          <p:nvPr/>
        </p:nvSpPr>
        <p:spPr>
          <a:xfrm>
            <a:off x="2658960" y="2133720"/>
            <a:ext cx="100080" cy="87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96"/>
          <p:cNvSpPr/>
          <p:nvPr/>
        </p:nvSpPr>
        <p:spPr>
          <a:xfrm>
            <a:off x="2108160" y="2525760"/>
            <a:ext cx="10008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7"/>
          <p:cNvSpPr/>
          <p:nvPr/>
        </p:nvSpPr>
        <p:spPr>
          <a:xfrm>
            <a:off x="2576520" y="2308320"/>
            <a:ext cx="9828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98"/>
          <p:cNvSpPr/>
          <p:nvPr/>
        </p:nvSpPr>
        <p:spPr>
          <a:xfrm>
            <a:off x="2247840" y="2651040"/>
            <a:ext cx="100080" cy="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99"/>
          <p:cNvSpPr/>
          <p:nvPr/>
        </p:nvSpPr>
        <p:spPr>
          <a:xfrm>
            <a:off x="2247840" y="2400480"/>
            <a:ext cx="10008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0"/>
          <p:cNvSpPr/>
          <p:nvPr/>
        </p:nvSpPr>
        <p:spPr>
          <a:xfrm>
            <a:off x="2525760" y="2651040"/>
            <a:ext cx="100080" cy="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01"/>
          <p:cNvSpPr/>
          <p:nvPr/>
        </p:nvSpPr>
        <p:spPr>
          <a:xfrm>
            <a:off x="1968480" y="2027160"/>
            <a:ext cx="10152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2"/>
          <p:cNvSpPr/>
          <p:nvPr/>
        </p:nvSpPr>
        <p:spPr>
          <a:xfrm>
            <a:off x="2178000" y="2027160"/>
            <a:ext cx="9864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3"/>
          <p:cNvSpPr/>
          <p:nvPr/>
        </p:nvSpPr>
        <p:spPr>
          <a:xfrm>
            <a:off x="2430360" y="2057400"/>
            <a:ext cx="9864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04"/>
          <p:cNvSpPr/>
          <p:nvPr/>
        </p:nvSpPr>
        <p:spPr>
          <a:xfrm>
            <a:off x="1900080" y="2214720"/>
            <a:ext cx="10008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05"/>
          <p:cNvSpPr/>
          <p:nvPr/>
        </p:nvSpPr>
        <p:spPr>
          <a:xfrm>
            <a:off x="2317680" y="2152800"/>
            <a:ext cx="98640" cy="87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06"/>
          <p:cNvSpPr/>
          <p:nvPr/>
        </p:nvSpPr>
        <p:spPr>
          <a:xfrm>
            <a:off x="2665440" y="1965240"/>
            <a:ext cx="100080" cy="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07"/>
          <p:cNvSpPr/>
          <p:nvPr/>
        </p:nvSpPr>
        <p:spPr>
          <a:xfrm>
            <a:off x="1890720" y="2633760"/>
            <a:ext cx="9828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08"/>
          <p:cNvSpPr/>
          <p:nvPr/>
        </p:nvSpPr>
        <p:spPr>
          <a:xfrm>
            <a:off x="1731960" y="2495520"/>
            <a:ext cx="100080" cy="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9"/>
          <p:cNvSpPr/>
          <p:nvPr/>
        </p:nvSpPr>
        <p:spPr>
          <a:xfrm>
            <a:off x="2206800" y="2914560"/>
            <a:ext cx="9828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0"/>
          <p:cNvSpPr/>
          <p:nvPr/>
        </p:nvSpPr>
        <p:spPr>
          <a:xfrm>
            <a:off x="1784520" y="2962440"/>
            <a:ext cx="98280" cy="8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1"/>
          <p:cNvSpPr/>
          <p:nvPr/>
        </p:nvSpPr>
        <p:spPr>
          <a:xfrm>
            <a:off x="1521000" y="2728800"/>
            <a:ext cx="99720" cy="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2"/>
          <p:cNvSpPr/>
          <p:nvPr/>
        </p:nvSpPr>
        <p:spPr>
          <a:xfrm>
            <a:off x="1784520" y="2774880"/>
            <a:ext cx="98280" cy="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3"/>
          <p:cNvSpPr/>
          <p:nvPr/>
        </p:nvSpPr>
        <p:spPr>
          <a:xfrm>
            <a:off x="1994040" y="3008160"/>
            <a:ext cx="101520" cy="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"/>
          <p:cNvSpPr/>
          <p:nvPr/>
        </p:nvSpPr>
        <p:spPr>
          <a:xfrm>
            <a:off x="1573200" y="3102120"/>
            <a:ext cx="10008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5"/>
          <p:cNvSpPr/>
          <p:nvPr/>
        </p:nvSpPr>
        <p:spPr>
          <a:xfrm>
            <a:off x="2838600" y="2260440"/>
            <a:ext cx="9972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6"/>
          <p:cNvSpPr/>
          <p:nvPr/>
        </p:nvSpPr>
        <p:spPr>
          <a:xfrm>
            <a:off x="2311560" y="2774880"/>
            <a:ext cx="99720" cy="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7"/>
          <p:cNvSpPr/>
          <p:nvPr/>
        </p:nvSpPr>
        <p:spPr>
          <a:xfrm>
            <a:off x="1994040" y="2774880"/>
            <a:ext cx="101520" cy="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8"/>
          <p:cNvSpPr/>
          <p:nvPr/>
        </p:nvSpPr>
        <p:spPr>
          <a:xfrm>
            <a:off x="1731960" y="2308320"/>
            <a:ext cx="10008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9"/>
          <p:cNvSpPr/>
          <p:nvPr/>
        </p:nvSpPr>
        <p:spPr>
          <a:xfrm>
            <a:off x="1573200" y="2914560"/>
            <a:ext cx="10008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20"/>
          <p:cNvSpPr/>
          <p:nvPr/>
        </p:nvSpPr>
        <p:spPr>
          <a:xfrm>
            <a:off x="1573200" y="2587680"/>
            <a:ext cx="10008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1"/>
          <p:cNvSpPr/>
          <p:nvPr/>
        </p:nvSpPr>
        <p:spPr>
          <a:xfrm>
            <a:off x="1414440" y="2962440"/>
            <a:ext cx="101520" cy="8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22"/>
          <p:cNvSpPr/>
          <p:nvPr/>
        </p:nvSpPr>
        <p:spPr>
          <a:xfrm>
            <a:off x="1521000" y="1793880"/>
            <a:ext cx="9972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23"/>
          <p:cNvSpPr/>
          <p:nvPr/>
        </p:nvSpPr>
        <p:spPr>
          <a:xfrm>
            <a:off x="831960" y="3630600"/>
            <a:ext cx="982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124"/>
          <p:cNvSpPr/>
          <p:nvPr/>
        </p:nvSpPr>
        <p:spPr>
          <a:xfrm>
            <a:off x="676440" y="2495520"/>
            <a:ext cx="101520" cy="87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125"/>
          <p:cNvSpPr/>
          <p:nvPr/>
        </p:nvSpPr>
        <p:spPr>
          <a:xfrm>
            <a:off x="1257480" y="2354400"/>
            <a:ext cx="997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126"/>
          <p:cNvSpPr/>
          <p:nvPr/>
        </p:nvSpPr>
        <p:spPr>
          <a:xfrm>
            <a:off x="1039680" y="3132000"/>
            <a:ext cx="9864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127"/>
          <p:cNvSpPr/>
          <p:nvPr/>
        </p:nvSpPr>
        <p:spPr>
          <a:xfrm>
            <a:off x="1247760" y="3381480"/>
            <a:ext cx="10008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128"/>
          <p:cNvSpPr/>
          <p:nvPr/>
        </p:nvSpPr>
        <p:spPr>
          <a:xfrm>
            <a:off x="1317600" y="3132000"/>
            <a:ext cx="10008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129"/>
          <p:cNvSpPr/>
          <p:nvPr/>
        </p:nvSpPr>
        <p:spPr>
          <a:xfrm>
            <a:off x="1525680" y="3506760"/>
            <a:ext cx="10008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130"/>
          <p:cNvSpPr/>
          <p:nvPr/>
        </p:nvSpPr>
        <p:spPr>
          <a:xfrm>
            <a:off x="1046160" y="1933560"/>
            <a:ext cx="100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131"/>
          <p:cNvSpPr/>
          <p:nvPr/>
        </p:nvSpPr>
        <p:spPr>
          <a:xfrm>
            <a:off x="1521000" y="3335400"/>
            <a:ext cx="9972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32"/>
          <p:cNvSpPr/>
          <p:nvPr/>
        </p:nvSpPr>
        <p:spPr>
          <a:xfrm>
            <a:off x="831960" y="3257640"/>
            <a:ext cx="9828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133"/>
          <p:cNvSpPr/>
          <p:nvPr/>
        </p:nvSpPr>
        <p:spPr>
          <a:xfrm>
            <a:off x="692280" y="3692520"/>
            <a:ext cx="982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134"/>
          <p:cNvSpPr/>
          <p:nvPr/>
        </p:nvSpPr>
        <p:spPr>
          <a:xfrm>
            <a:off x="831960" y="3817800"/>
            <a:ext cx="9828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35"/>
          <p:cNvSpPr/>
          <p:nvPr/>
        </p:nvSpPr>
        <p:spPr>
          <a:xfrm>
            <a:off x="971640" y="3941640"/>
            <a:ext cx="9828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136"/>
          <p:cNvSpPr/>
          <p:nvPr/>
        </p:nvSpPr>
        <p:spPr>
          <a:xfrm>
            <a:off x="1179360" y="3817800"/>
            <a:ext cx="9864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37"/>
          <p:cNvSpPr/>
          <p:nvPr/>
        </p:nvSpPr>
        <p:spPr>
          <a:xfrm>
            <a:off x="1890720" y="3429000"/>
            <a:ext cx="9828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138"/>
          <p:cNvSpPr/>
          <p:nvPr/>
        </p:nvSpPr>
        <p:spPr>
          <a:xfrm>
            <a:off x="2576520" y="2914560"/>
            <a:ext cx="9828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39"/>
          <p:cNvSpPr/>
          <p:nvPr/>
        </p:nvSpPr>
        <p:spPr>
          <a:xfrm>
            <a:off x="2944800" y="3195720"/>
            <a:ext cx="10008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140"/>
          <p:cNvSpPr/>
          <p:nvPr/>
        </p:nvSpPr>
        <p:spPr>
          <a:xfrm>
            <a:off x="2363760" y="3241800"/>
            <a:ext cx="1015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141"/>
          <p:cNvSpPr/>
          <p:nvPr/>
        </p:nvSpPr>
        <p:spPr>
          <a:xfrm>
            <a:off x="2576520" y="3147840"/>
            <a:ext cx="9828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142"/>
          <p:cNvSpPr/>
          <p:nvPr/>
        </p:nvSpPr>
        <p:spPr>
          <a:xfrm>
            <a:off x="2786040" y="2962440"/>
            <a:ext cx="101520" cy="8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143"/>
          <p:cNvSpPr/>
          <p:nvPr/>
        </p:nvSpPr>
        <p:spPr>
          <a:xfrm>
            <a:off x="1204920" y="2914560"/>
            <a:ext cx="9828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144"/>
          <p:cNvSpPr/>
          <p:nvPr/>
        </p:nvSpPr>
        <p:spPr>
          <a:xfrm>
            <a:off x="1204920" y="2633760"/>
            <a:ext cx="982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145"/>
          <p:cNvSpPr/>
          <p:nvPr/>
        </p:nvSpPr>
        <p:spPr>
          <a:xfrm>
            <a:off x="1836720" y="3614760"/>
            <a:ext cx="100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146"/>
          <p:cNvSpPr/>
          <p:nvPr/>
        </p:nvSpPr>
        <p:spPr>
          <a:xfrm>
            <a:off x="1625760" y="1933560"/>
            <a:ext cx="997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47"/>
          <p:cNvSpPr/>
          <p:nvPr/>
        </p:nvSpPr>
        <p:spPr>
          <a:xfrm>
            <a:off x="939960" y="2400480"/>
            <a:ext cx="997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148"/>
          <p:cNvSpPr/>
          <p:nvPr/>
        </p:nvSpPr>
        <p:spPr>
          <a:xfrm>
            <a:off x="1890720" y="3755880"/>
            <a:ext cx="9828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49"/>
          <p:cNvSpPr/>
          <p:nvPr/>
        </p:nvSpPr>
        <p:spPr>
          <a:xfrm>
            <a:off x="1046160" y="2820960"/>
            <a:ext cx="100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150"/>
          <p:cNvSpPr/>
          <p:nvPr/>
        </p:nvSpPr>
        <p:spPr>
          <a:xfrm>
            <a:off x="2100240" y="3568680"/>
            <a:ext cx="10152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151"/>
          <p:cNvSpPr/>
          <p:nvPr/>
        </p:nvSpPr>
        <p:spPr>
          <a:xfrm>
            <a:off x="1309680" y="2075040"/>
            <a:ext cx="100080" cy="8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52"/>
          <p:cNvSpPr/>
          <p:nvPr/>
        </p:nvSpPr>
        <p:spPr>
          <a:xfrm>
            <a:off x="728640" y="2914560"/>
            <a:ext cx="10152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53"/>
          <p:cNvSpPr/>
          <p:nvPr/>
        </p:nvSpPr>
        <p:spPr>
          <a:xfrm>
            <a:off x="992160" y="2587680"/>
            <a:ext cx="1015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154"/>
          <p:cNvSpPr/>
          <p:nvPr/>
        </p:nvSpPr>
        <p:spPr>
          <a:xfrm>
            <a:off x="2100240" y="3287880"/>
            <a:ext cx="1015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55"/>
          <p:cNvSpPr/>
          <p:nvPr/>
        </p:nvSpPr>
        <p:spPr>
          <a:xfrm>
            <a:off x="2363760" y="3381480"/>
            <a:ext cx="10152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156"/>
          <p:cNvSpPr/>
          <p:nvPr/>
        </p:nvSpPr>
        <p:spPr>
          <a:xfrm>
            <a:off x="2048040" y="3755880"/>
            <a:ext cx="9972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57"/>
          <p:cNvSpPr/>
          <p:nvPr/>
        </p:nvSpPr>
        <p:spPr>
          <a:xfrm>
            <a:off x="2892600" y="2681280"/>
            <a:ext cx="9828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58"/>
          <p:cNvSpPr/>
          <p:nvPr/>
        </p:nvSpPr>
        <p:spPr>
          <a:xfrm>
            <a:off x="2997360" y="2027160"/>
            <a:ext cx="9972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59"/>
          <p:cNvSpPr/>
          <p:nvPr/>
        </p:nvSpPr>
        <p:spPr>
          <a:xfrm>
            <a:off x="2786040" y="2495520"/>
            <a:ext cx="101520" cy="87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60"/>
          <p:cNvSpPr/>
          <p:nvPr/>
        </p:nvSpPr>
        <p:spPr>
          <a:xfrm>
            <a:off x="2944800" y="1793880"/>
            <a:ext cx="10008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61"/>
          <p:cNvSpPr/>
          <p:nvPr/>
        </p:nvSpPr>
        <p:spPr>
          <a:xfrm>
            <a:off x="1994040" y="1512720"/>
            <a:ext cx="10152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62"/>
          <p:cNvSpPr/>
          <p:nvPr/>
        </p:nvSpPr>
        <p:spPr>
          <a:xfrm>
            <a:off x="1836720" y="1700280"/>
            <a:ext cx="100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163"/>
          <p:cNvSpPr/>
          <p:nvPr/>
        </p:nvSpPr>
        <p:spPr>
          <a:xfrm>
            <a:off x="2311560" y="1558800"/>
            <a:ext cx="9972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64"/>
          <p:cNvSpPr/>
          <p:nvPr/>
        </p:nvSpPr>
        <p:spPr>
          <a:xfrm>
            <a:off x="1836720" y="3287880"/>
            <a:ext cx="100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165"/>
          <p:cNvSpPr/>
          <p:nvPr/>
        </p:nvSpPr>
        <p:spPr>
          <a:xfrm>
            <a:off x="1521000" y="2120760"/>
            <a:ext cx="9972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66"/>
          <p:cNvSpPr/>
          <p:nvPr/>
        </p:nvSpPr>
        <p:spPr>
          <a:xfrm>
            <a:off x="53640" y="106668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ne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67"/>
          <p:cNvSpPr/>
          <p:nvPr/>
        </p:nvSpPr>
        <p:spPr>
          <a:xfrm>
            <a:off x="3637440" y="403848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ne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42"/>
          <p:cNvSpPr/>
          <p:nvPr/>
        </p:nvSpPr>
        <p:spPr>
          <a:xfrm>
            <a:off x="1973160" y="1752480"/>
            <a:ext cx="623880" cy="25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um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43"/>
          <p:cNvSpPr/>
          <p:nvPr/>
        </p:nvSpPr>
        <p:spPr>
          <a:xfrm>
            <a:off x="2506680" y="3429000"/>
            <a:ext cx="623880" cy="25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252"/>
          <p:cNvGrpSpPr/>
          <p:nvPr/>
        </p:nvGrpSpPr>
        <p:grpSpPr>
          <a:xfrm>
            <a:off x="5380200" y="1511280"/>
            <a:ext cx="3544560" cy="2590560"/>
            <a:chOff x="5380200" y="1511280"/>
            <a:chExt cx="3544560" cy="2590560"/>
          </a:xfrm>
        </p:grpSpPr>
        <p:grpSp>
          <p:nvGrpSpPr>
            <p:cNvPr id="297" name="Group 3"/>
            <p:cNvGrpSpPr/>
            <p:nvPr/>
          </p:nvGrpSpPr>
          <p:grpSpPr>
            <a:xfrm>
              <a:off x="5380200" y="1511280"/>
              <a:ext cx="3544560" cy="2590560"/>
              <a:chOff x="5380200" y="1511280"/>
              <a:chExt cx="3544560" cy="2590560"/>
            </a:xfrm>
          </p:grpSpPr>
          <p:graphicFrame>
            <p:nvGraphicFramePr>
              <p:cNvPr id="298" name="Object 2"/>
              <p:cNvGraphicFramePr/>
              <p:nvPr/>
            </p:nvGraphicFramePr>
            <p:xfrm>
              <a:off x="5380200" y="1511280"/>
              <a:ext cx="3544560" cy="2590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9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80200" y="1511280"/>
                        <a:ext cx="3544560" cy="259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0" name="Rectangle 5"/>
              <p:cNvSpPr/>
              <p:nvPr/>
            </p:nvSpPr>
            <p:spPr>
              <a:xfrm>
                <a:off x="6696000" y="2036160"/>
                <a:ext cx="94680" cy="98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6"/>
              <p:cNvSpPr/>
              <p:nvPr/>
            </p:nvSpPr>
            <p:spPr>
              <a:xfrm>
                <a:off x="6897600" y="1881720"/>
                <a:ext cx="94680" cy="98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7"/>
              <p:cNvSpPr/>
              <p:nvPr/>
            </p:nvSpPr>
            <p:spPr>
              <a:xfrm>
                <a:off x="6846480" y="2086560"/>
                <a:ext cx="95040" cy="98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8"/>
              <p:cNvSpPr/>
              <p:nvPr/>
            </p:nvSpPr>
            <p:spPr>
              <a:xfrm>
                <a:off x="7048440" y="2036160"/>
                <a:ext cx="96120" cy="98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9"/>
              <p:cNvSpPr/>
              <p:nvPr/>
            </p:nvSpPr>
            <p:spPr>
              <a:xfrm>
                <a:off x="6543360" y="2138400"/>
                <a:ext cx="964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10"/>
              <p:cNvSpPr/>
              <p:nvPr/>
            </p:nvSpPr>
            <p:spPr>
              <a:xfrm>
                <a:off x="6696000" y="2188440"/>
                <a:ext cx="946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11"/>
              <p:cNvSpPr/>
              <p:nvPr/>
            </p:nvSpPr>
            <p:spPr>
              <a:xfrm>
                <a:off x="6846480" y="2241000"/>
                <a:ext cx="95040" cy="98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12"/>
              <p:cNvSpPr/>
              <p:nvPr/>
            </p:nvSpPr>
            <p:spPr>
              <a:xfrm>
                <a:off x="6999120" y="2241000"/>
                <a:ext cx="94680" cy="98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13"/>
              <p:cNvSpPr/>
              <p:nvPr/>
            </p:nvSpPr>
            <p:spPr>
              <a:xfrm>
                <a:off x="7149960" y="2188440"/>
                <a:ext cx="946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Rectangle 14"/>
              <p:cNvSpPr/>
              <p:nvPr/>
            </p:nvSpPr>
            <p:spPr>
              <a:xfrm>
                <a:off x="6494400" y="2291040"/>
                <a:ext cx="946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15"/>
              <p:cNvSpPr/>
              <p:nvPr/>
            </p:nvSpPr>
            <p:spPr>
              <a:xfrm>
                <a:off x="6696000" y="2393280"/>
                <a:ext cx="946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16"/>
              <p:cNvSpPr/>
              <p:nvPr/>
            </p:nvSpPr>
            <p:spPr>
              <a:xfrm>
                <a:off x="6846480" y="2445480"/>
                <a:ext cx="9504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17"/>
              <p:cNvSpPr/>
              <p:nvPr/>
            </p:nvSpPr>
            <p:spPr>
              <a:xfrm>
                <a:off x="6999120" y="2445480"/>
                <a:ext cx="946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18"/>
              <p:cNvSpPr/>
              <p:nvPr/>
            </p:nvSpPr>
            <p:spPr>
              <a:xfrm>
                <a:off x="7200720" y="2393280"/>
                <a:ext cx="946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19"/>
              <p:cNvSpPr/>
              <p:nvPr/>
            </p:nvSpPr>
            <p:spPr>
              <a:xfrm>
                <a:off x="6392520" y="2445480"/>
                <a:ext cx="9504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0"/>
              <p:cNvSpPr/>
              <p:nvPr/>
            </p:nvSpPr>
            <p:spPr>
              <a:xfrm>
                <a:off x="6999120" y="2598120"/>
                <a:ext cx="946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21"/>
              <p:cNvSpPr/>
              <p:nvPr/>
            </p:nvSpPr>
            <p:spPr>
              <a:xfrm>
                <a:off x="6543360" y="2495880"/>
                <a:ext cx="964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2"/>
              <p:cNvSpPr/>
              <p:nvPr/>
            </p:nvSpPr>
            <p:spPr>
              <a:xfrm>
                <a:off x="6696000" y="2547720"/>
                <a:ext cx="946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23"/>
              <p:cNvSpPr/>
              <p:nvPr/>
            </p:nvSpPr>
            <p:spPr>
              <a:xfrm>
                <a:off x="6846480" y="2598120"/>
                <a:ext cx="9504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24"/>
              <p:cNvSpPr/>
              <p:nvPr/>
            </p:nvSpPr>
            <p:spPr>
              <a:xfrm>
                <a:off x="7149960" y="2547720"/>
                <a:ext cx="946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Rectangle 25"/>
              <p:cNvSpPr/>
              <p:nvPr/>
            </p:nvSpPr>
            <p:spPr>
              <a:xfrm>
                <a:off x="7351560" y="2495880"/>
                <a:ext cx="946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26"/>
              <p:cNvSpPr/>
              <p:nvPr/>
            </p:nvSpPr>
            <p:spPr>
              <a:xfrm>
                <a:off x="7300800" y="2650320"/>
                <a:ext cx="964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27"/>
              <p:cNvSpPr/>
              <p:nvPr/>
            </p:nvSpPr>
            <p:spPr>
              <a:xfrm>
                <a:off x="7149960" y="2700720"/>
                <a:ext cx="946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28"/>
              <p:cNvSpPr/>
              <p:nvPr/>
            </p:nvSpPr>
            <p:spPr>
              <a:xfrm>
                <a:off x="6392520" y="2598120"/>
                <a:ext cx="9504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29"/>
              <p:cNvSpPr/>
              <p:nvPr/>
            </p:nvSpPr>
            <p:spPr>
              <a:xfrm>
                <a:off x="6543360" y="2700720"/>
                <a:ext cx="964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30"/>
              <p:cNvSpPr/>
              <p:nvPr/>
            </p:nvSpPr>
            <p:spPr>
              <a:xfrm>
                <a:off x="6746760" y="2752560"/>
                <a:ext cx="946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31"/>
              <p:cNvSpPr/>
              <p:nvPr/>
            </p:nvSpPr>
            <p:spPr>
              <a:xfrm>
                <a:off x="6948360" y="2752560"/>
                <a:ext cx="94680" cy="98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Oval 32"/>
              <p:cNvSpPr/>
              <p:nvPr/>
            </p:nvSpPr>
            <p:spPr>
              <a:xfrm>
                <a:off x="5736960" y="321264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Oval 33"/>
              <p:cNvSpPr/>
              <p:nvPr/>
            </p:nvSpPr>
            <p:spPr>
              <a:xfrm>
                <a:off x="5887800" y="3264480"/>
                <a:ext cx="950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Oval 34"/>
              <p:cNvSpPr/>
              <p:nvPr/>
            </p:nvSpPr>
            <p:spPr>
              <a:xfrm>
                <a:off x="6089400" y="3417480"/>
                <a:ext cx="964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Oval 35"/>
              <p:cNvSpPr/>
              <p:nvPr/>
            </p:nvSpPr>
            <p:spPr>
              <a:xfrm>
                <a:off x="7099200" y="3621960"/>
                <a:ext cx="946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Oval 36"/>
              <p:cNvSpPr/>
              <p:nvPr/>
            </p:nvSpPr>
            <p:spPr>
              <a:xfrm>
                <a:off x="6846480" y="3264480"/>
                <a:ext cx="950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Oval 37"/>
              <p:cNvSpPr/>
              <p:nvPr/>
            </p:nvSpPr>
            <p:spPr>
              <a:xfrm>
                <a:off x="7351560" y="3571920"/>
                <a:ext cx="946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Oval 38"/>
              <p:cNvSpPr/>
              <p:nvPr/>
            </p:nvSpPr>
            <p:spPr>
              <a:xfrm>
                <a:off x="7553160" y="3417480"/>
                <a:ext cx="964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Oval 39"/>
              <p:cNvSpPr/>
              <p:nvPr/>
            </p:nvSpPr>
            <p:spPr>
              <a:xfrm>
                <a:off x="7957800" y="3469320"/>
                <a:ext cx="950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40"/>
              <p:cNvSpPr/>
              <p:nvPr/>
            </p:nvSpPr>
            <p:spPr>
              <a:xfrm>
                <a:off x="8159400" y="336708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Oval 41"/>
              <p:cNvSpPr/>
              <p:nvPr/>
            </p:nvSpPr>
            <p:spPr>
              <a:xfrm>
                <a:off x="6795720" y="3776400"/>
                <a:ext cx="964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Oval 42"/>
              <p:cNvSpPr/>
              <p:nvPr/>
            </p:nvSpPr>
            <p:spPr>
              <a:xfrm>
                <a:off x="7099200" y="3776400"/>
                <a:ext cx="946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Oval 43"/>
              <p:cNvSpPr/>
              <p:nvPr/>
            </p:nvSpPr>
            <p:spPr>
              <a:xfrm>
                <a:off x="6494400" y="3110040"/>
                <a:ext cx="946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Oval 44"/>
              <p:cNvSpPr/>
              <p:nvPr/>
            </p:nvSpPr>
            <p:spPr>
              <a:xfrm>
                <a:off x="6594120" y="3673800"/>
                <a:ext cx="950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Oval 45"/>
              <p:cNvSpPr/>
              <p:nvPr/>
            </p:nvSpPr>
            <p:spPr>
              <a:xfrm>
                <a:off x="6241680" y="3519360"/>
                <a:ext cx="950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46"/>
              <p:cNvSpPr/>
              <p:nvPr/>
            </p:nvSpPr>
            <p:spPr>
              <a:xfrm>
                <a:off x="8159400" y="3519360"/>
                <a:ext cx="950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47"/>
              <p:cNvSpPr/>
              <p:nvPr/>
            </p:nvSpPr>
            <p:spPr>
              <a:xfrm>
                <a:off x="7805520" y="336708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Oval 48"/>
              <p:cNvSpPr/>
              <p:nvPr/>
            </p:nvSpPr>
            <p:spPr>
              <a:xfrm>
                <a:off x="7453080" y="3673800"/>
                <a:ext cx="950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Oval 49"/>
              <p:cNvSpPr/>
              <p:nvPr/>
            </p:nvSpPr>
            <p:spPr>
              <a:xfrm>
                <a:off x="5989320" y="316224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Oval 50"/>
              <p:cNvSpPr/>
              <p:nvPr/>
            </p:nvSpPr>
            <p:spPr>
              <a:xfrm>
                <a:off x="5535360" y="3264480"/>
                <a:ext cx="950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Oval 51"/>
              <p:cNvSpPr/>
              <p:nvPr/>
            </p:nvSpPr>
            <p:spPr>
              <a:xfrm>
                <a:off x="6948360" y="3673800"/>
                <a:ext cx="946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Oval 52"/>
              <p:cNvSpPr/>
              <p:nvPr/>
            </p:nvSpPr>
            <p:spPr>
              <a:xfrm>
                <a:off x="6392520" y="3469320"/>
                <a:ext cx="950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53"/>
              <p:cNvSpPr/>
              <p:nvPr/>
            </p:nvSpPr>
            <p:spPr>
              <a:xfrm>
                <a:off x="5938560" y="341748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54"/>
              <p:cNvSpPr/>
              <p:nvPr/>
            </p:nvSpPr>
            <p:spPr>
              <a:xfrm>
                <a:off x="6846480" y="362196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Oval 55"/>
              <p:cNvSpPr/>
              <p:nvPr/>
            </p:nvSpPr>
            <p:spPr>
              <a:xfrm>
                <a:off x="6696000" y="3367080"/>
                <a:ext cx="946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Oval 56"/>
              <p:cNvSpPr/>
              <p:nvPr/>
            </p:nvSpPr>
            <p:spPr>
              <a:xfrm>
                <a:off x="7149960" y="3417480"/>
                <a:ext cx="946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7"/>
              <p:cNvSpPr/>
              <p:nvPr/>
            </p:nvSpPr>
            <p:spPr>
              <a:xfrm>
                <a:off x="6594120" y="357192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8"/>
              <p:cNvSpPr/>
              <p:nvPr/>
            </p:nvSpPr>
            <p:spPr>
              <a:xfrm>
                <a:off x="7553160" y="3571920"/>
                <a:ext cx="964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9"/>
              <p:cNvSpPr/>
              <p:nvPr/>
            </p:nvSpPr>
            <p:spPr>
              <a:xfrm>
                <a:off x="7805520" y="357192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60"/>
              <p:cNvSpPr/>
              <p:nvPr/>
            </p:nvSpPr>
            <p:spPr>
              <a:xfrm>
                <a:off x="7907040" y="3314880"/>
                <a:ext cx="950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61"/>
              <p:cNvSpPr/>
              <p:nvPr/>
            </p:nvSpPr>
            <p:spPr>
              <a:xfrm>
                <a:off x="7200720" y="3724200"/>
                <a:ext cx="946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62"/>
              <p:cNvSpPr/>
              <p:nvPr/>
            </p:nvSpPr>
            <p:spPr>
              <a:xfrm>
                <a:off x="6190920" y="321264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63"/>
              <p:cNvSpPr/>
              <p:nvPr/>
            </p:nvSpPr>
            <p:spPr>
              <a:xfrm>
                <a:off x="6494400" y="3314880"/>
                <a:ext cx="946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4"/>
              <p:cNvSpPr/>
              <p:nvPr/>
            </p:nvSpPr>
            <p:spPr>
              <a:xfrm>
                <a:off x="6392520" y="357192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5"/>
              <p:cNvSpPr/>
              <p:nvPr/>
            </p:nvSpPr>
            <p:spPr>
              <a:xfrm>
                <a:off x="8007120" y="3314880"/>
                <a:ext cx="964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6"/>
              <p:cNvSpPr/>
              <p:nvPr/>
            </p:nvSpPr>
            <p:spPr>
              <a:xfrm>
                <a:off x="6897600" y="3162240"/>
                <a:ext cx="946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7"/>
              <p:cNvSpPr/>
              <p:nvPr/>
            </p:nvSpPr>
            <p:spPr>
              <a:xfrm>
                <a:off x="8310240" y="3314880"/>
                <a:ext cx="950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8"/>
              <p:cNvSpPr/>
              <p:nvPr/>
            </p:nvSpPr>
            <p:spPr>
              <a:xfrm>
                <a:off x="6140160" y="3519360"/>
                <a:ext cx="950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9"/>
              <p:cNvSpPr/>
              <p:nvPr/>
            </p:nvSpPr>
            <p:spPr>
              <a:xfrm>
                <a:off x="7907040" y="316224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70"/>
              <p:cNvSpPr/>
              <p:nvPr/>
            </p:nvSpPr>
            <p:spPr>
              <a:xfrm>
                <a:off x="7654680" y="357192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71"/>
              <p:cNvSpPr/>
              <p:nvPr/>
            </p:nvSpPr>
            <p:spPr>
              <a:xfrm>
                <a:off x="8310240" y="341748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72"/>
              <p:cNvSpPr/>
              <p:nvPr/>
            </p:nvSpPr>
            <p:spPr>
              <a:xfrm flipV="1">
                <a:off x="6038640" y="2957040"/>
                <a:ext cx="2069640" cy="50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73"/>
              <p:cNvSpPr/>
              <p:nvPr/>
            </p:nvSpPr>
            <p:spPr>
              <a:xfrm flipH="1" flipV="1">
                <a:off x="5686200" y="2598120"/>
                <a:ext cx="352080" cy="40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74"/>
              <p:cNvSpPr/>
              <p:nvPr/>
            </p:nvSpPr>
            <p:spPr>
              <a:xfrm flipH="1" flipV="1">
                <a:off x="7754760" y="2547360"/>
                <a:ext cx="353520" cy="409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75"/>
              <p:cNvSpPr/>
              <p:nvPr/>
            </p:nvSpPr>
            <p:spPr>
              <a:xfrm>
                <a:off x="5686200" y="2598120"/>
                <a:ext cx="555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76"/>
              <p:cNvSpPr/>
              <p:nvPr/>
            </p:nvSpPr>
            <p:spPr>
              <a:xfrm>
                <a:off x="7502400" y="2547720"/>
                <a:ext cx="252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Oval 77"/>
              <p:cNvSpPr/>
              <p:nvPr/>
            </p:nvSpPr>
            <p:spPr>
              <a:xfrm>
                <a:off x="7603920" y="3212640"/>
                <a:ext cx="946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Oval 78"/>
              <p:cNvSpPr/>
              <p:nvPr/>
            </p:nvSpPr>
            <p:spPr>
              <a:xfrm>
                <a:off x="8007120" y="3571920"/>
                <a:ext cx="964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Oval 79"/>
              <p:cNvSpPr/>
              <p:nvPr/>
            </p:nvSpPr>
            <p:spPr>
              <a:xfrm>
                <a:off x="7402320" y="3110040"/>
                <a:ext cx="946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Oval 80"/>
              <p:cNvSpPr/>
              <p:nvPr/>
            </p:nvSpPr>
            <p:spPr>
              <a:xfrm>
                <a:off x="7705440" y="3110040"/>
                <a:ext cx="950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Oval 81"/>
              <p:cNvSpPr/>
              <p:nvPr/>
            </p:nvSpPr>
            <p:spPr>
              <a:xfrm>
                <a:off x="7099200" y="3212640"/>
                <a:ext cx="946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Oval 82"/>
              <p:cNvSpPr/>
              <p:nvPr/>
            </p:nvSpPr>
            <p:spPr>
              <a:xfrm>
                <a:off x="6644880" y="321264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83"/>
              <p:cNvSpPr/>
              <p:nvPr/>
            </p:nvSpPr>
            <p:spPr>
              <a:xfrm>
                <a:off x="6341760" y="3212640"/>
                <a:ext cx="9504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Oval 84"/>
              <p:cNvSpPr/>
              <p:nvPr/>
            </p:nvSpPr>
            <p:spPr>
              <a:xfrm>
                <a:off x="6999120" y="3417480"/>
                <a:ext cx="94680" cy="9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Oval 85"/>
              <p:cNvSpPr/>
              <p:nvPr/>
            </p:nvSpPr>
            <p:spPr>
              <a:xfrm>
                <a:off x="7250040" y="3314880"/>
                <a:ext cx="964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86"/>
              <p:cNvSpPr/>
              <p:nvPr/>
            </p:nvSpPr>
            <p:spPr>
              <a:xfrm>
                <a:off x="7467480" y="3310920"/>
                <a:ext cx="946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Text Box 244"/>
            <p:cNvSpPr/>
            <p:nvPr/>
          </p:nvSpPr>
          <p:spPr>
            <a:xfrm>
              <a:off x="5943240" y="1752480"/>
              <a:ext cx="623520" cy="25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um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46"/>
            <p:cNvSpPr/>
            <p:nvPr/>
          </p:nvSpPr>
          <p:spPr>
            <a:xfrm>
              <a:off x="8229240" y="2971800"/>
              <a:ext cx="623520" cy="25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Text Box 169"/>
          <p:cNvSpPr/>
          <p:nvPr/>
        </p:nvSpPr>
        <p:spPr>
          <a:xfrm>
            <a:off x="3621240" y="2043000"/>
            <a:ext cx="11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41"/>
          <p:cNvSpPr/>
          <p:nvPr/>
        </p:nvSpPr>
        <p:spPr>
          <a:xfrm flipV="1">
            <a:off x="3678840" y="2666520"/>
            <a:ext cx="990000" cy="7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rgina klasifikacije (Classification Margin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24000" y="1486080"/>
            <a:ext cx="8648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ojanje primjer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granice je dato s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jeri najbliži granici (hiperravni) s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pport vekt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rg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granice je rastojanje između support v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2664000" y="333972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2529000" y="626580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3703680" y="4095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3129120" y="4452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3281400" y="4998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9"/>
          <p:cNvSpPr/>
          <p:nvPr/>
        </p:nvSpPr>
        <p:spPr>
          <a:xfrm>
            <a:off x="290052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3433680" y="3855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290052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3052800" y="492300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3814920" y="45417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14"/>
          <p:cNvSpPr/>
          <p:nvPr/>
        </p:nvSpPr>
        <p:spPr>
          <a:xfrm>
            <a:off x="4716360" y="4529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434808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6"/>
          <p:cNvSpPr/>
          <p:nvPr/>
        </p:nvSpPr>
        <p:spPr>
          <a:xfrm>
            <a:off x="533880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17"/>
          <p:cNvSpPr/>
          <p:nvPr/>
        </p:nvSpPr>
        <p:spPr>
          <a:xfrm>
            <a:off x="4030560" y="5977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8"/>
          <p:cNvSpPr/>
          <p:nvPr/>
        </p:nvSpPr>
        <p:spPr>
          <a:xfrm>
            <a:off x="4653000" y="4846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9"/>
          <p:cNvSpPr/>
          <p:nvPr/>
        </p:nvSpPr>
        <p:spPr>
          <a:xfrm>
            <a:off x="4084560" y="53402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20"/>
          <p:cNvSpPr/>
          <p:nvPr/>
        </p:nvSpPr>
        <p:spPr>
          <a:xfrm>
            <a:off x="4729320" y="56847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21"/>
          <p:cNvSpPr/>
          <p:nvPr/>
        </p:nvSpPr>
        <p:spPr>
          <a:xfrm>
            <a:off x="541512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23"/>
          <p:cNvSpPr/>
          <p:nvPr/>
        </p:nvSpPr>
        <p:spPr>
          <a:xfrm>
            <a:off x="3900600" y="32576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24"/>
          <p:cNvSpPr/>
          <p:nvPr/>
        </p:nvSpPr>
        <p:spPr>
          <a:xfrm>
            <a:off x="4510080" y="3333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25"/>
          <p:cNvSpPr/>
          <p:nvPr/>
        </p:nvSpPr>
        <p:spPr>
          <a:xfrm>
            <a:off x="5576760" y="4095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6"/>
          <p:cNvSpPr/>
          <p:nvPr/>
        </p:nvSpPr>
        <p:spPr>
          <a:xfrm flipV="1">
            <a:off x="3129120" y="3257640"/>
            <a:ext cx="2143080" cy="288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3981600" y="3340080"/>
            <a:ext cx="761760" cy="61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34"/>
          <p:cNvSpPr/>
          <p:nvPr/>
        </p:nvSpPr>
        <p:spPr>
          <a:xfrm flipH="1" flipV="1">
            <a:off x="4464000" y="4362120"/>
            <a:ext cx="254160" cy="183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36"/>
              <p:cNvSpPr txBox="1"/>
              <p:nvPr/>
            </p:nvSpPr>
            <p:spPr>
              <a:xfrm>
                <a:off x="6242040" y="1365120"/>
                <a:ext cx="1260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Text Box 37"/>
          <p:cNvSpPr/>
          <p:nvPr/>
        </p:nvSpPr>
        <p:spPr>
          <a:xfrm>
            <a:off x="4086360" y="3476520"/>
            <a:ext cx="4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8"/>
          <p:cNvSpPr/>
          <p:nvPr/>
        </p:nvSpPr>
        <p:spPr>
          <a:xfrm>
            <a:off x="3740040" y="447660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9"/>
          <p:cNvSpPr/>
          <p:nvPr/>
        </p:nvSpPr>
        <p:spPr>
          <a:xfrm>
            <a:off x="4013280" y="5272200"/>
            <a:ext cx="228600" cy="2188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40"/>
          <p:cNvSpPr/>
          <p:nvPr/>
        </p:nvSpPr>
        <p:spPr>
          <a:xfrm>
            <a:off x="4646520" y="4459320"/>
            <a:ext cx="228600" cy="218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41"/>
          <p:cNvSpPr/>
          <p:nvPr/>
        </p:nvSpPr>
        <p:spPr>
          <a:xfrm flipH="1" flipV="1">
            <a:off x="3839760" y="5176440"/>
            <a:ext cx="244440" cy="17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42"/>
          <p:cNvSpPr/>
          <p:nvPr/>
        </p:nvSpPr>
        <p:spPr>
          <a:xfrm flipH="1" flipV="1">
            <a:off x="3892680" y="4614840"/>
            <a:ext cx="234720" cy="1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43"/>
          <p:cNvSpPr/>
          <p:nvPr/>
        </p:nvSpPr>
        <p:spPr>
          <a:xfrm flipV="1">
            <a:off x="3567240" y="3438360"/>
            <a:ext cx="2009520" cy="269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4"/>
          <p:cNvSpPr/>
          <p:nvPr/>
        </p:nvSpPr>
        <p:spPr>
          <a:xfrm flipV="1">
            <a:off x="2919240" y="3076200"/>
            <a:ext cx="2067120" cy="277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45"/>
          <p:cNvSpPr/>
          <p:nvPr/>
        </p:nvSpPr>
        <p:spPr>
          <a:xfrm>
            <a:off x="4933800" y="3143160"/>
            <a:ext cx="552600" cy="419040"/>
          </a:xfrm>
          <a:prstGeom prst="line">
            <a:avLst/>
          </a:prstGeom>
          <a:ln w="936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46"/>
          <p:cNvSpPr/>
          <p:nvPr/>
        </p:nvSpPr>
        <p:spPr>
          <a:xfrm>
            <a:off x="50101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ximum Margin Classific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simiziranje margine je dobro i intuitivno i u skladu sa teorijom (tzv, PAC teorij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ra se da su samo support vektori važni; ostali primjeri za obučavanje se mogu ignorisa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0"/>
          <p:cNvSpPr/>
          <p:nvPr/>
        </p:nvSpPr>
        <p:spPr>
          <a:xfrm flipV="1">
            <a:off x="2664000" y="333972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31"/>
          <p:cNvSpPr/>
          <p:nvPr/>
        </p:nvSpPr>
        <p:spPr>
          <a:xfrm>
            <a:off x="2529000" y="626580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32"/>
          <p:cNvSpPr/>
          <p:nvPr/>
        </p:nvSpPr>
        <p:spPr>
          <a:xfrm>
            <a:off x="3703680" y="4095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33"/>
          <p:cNvSpPr/>
          <p:nvPr/>
        </p:nvSpPr>
        <p:spPr>
          <a:xfrm>
            <a:off x="3129120" y="4452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34"/>
          <p:cNvSpPr/>
          <p:nvPr/>
        </p:nvSpPr>
        <p:spPr>
          <a:xfrm>
            <a:off x="3281400" y="4998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35"/>
          <p:cNvSpPr/>
          <p:nvPr/>
        </p:nvSpPr>
        <p:spPr>
          <a:xfrm>
            <a:off x="290052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36"/>
          <p:cNvSpPr/>
          <p:nvPr/>
        </p:nvSpPr>
        <p:spPr>
          <a:xfrm>
            <a:off x="3433680" y="3855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utoShape 37"/>
          <p:cNvSpPr/>
          <p:nvPr/>
        </p:nvSpPr>
        <p:spPr>
          <a:xfrm>
            <a:off x="290052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38"/>
          <p:cNvSpPr/>
          <p:nvPr/>
        </p:nvSpPr>
        <p:spPr>
          <a:xfrm>
            <a:off x="3052800" y="492300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39"/>
          <p:cNvSpPr/>
          <p:nvPr/>
        </p:nvSpPr>
        <p:spPr>
          <a:xfrm>
            <a:off x="3814920" y="45417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40"/>
          <p:cNvSpPr/>
          <p:nvPr/>
        </p:nvSpPr>
        <p:spPr>
          <a:xfrm>
            <a:off x="4716360" y="4529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41"/>
          <p:cNvSpPr/>
          <p:nvPr/>
        </p:nvSpPr>
        <p:spPr>
          <a:xfrm>
            <a:off x="434808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42"/>
          <p:cNvSpPr/>
          <p:nvPr/>
        </p:nvSpPr>
        <p:spPr>
          <a:xfrm>
            <a:off x="533880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43"/>
          <p:cNvSpPr/>
          <p:nvPr/>
        </p:nvSpPr>
        <p:spPr>
          <a:xfrm>
            <a:off x="4030560" y="5977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4"/>
          <p:cNvSpPr/>
          <p:nvPr/>
        </p:nvSpPr>
        <p:spPr>
          <a:xfrm>
            <a:off x="4653000" y="4846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45"/>
          <p:cNvSpPr/>
          <p:nvPr/>
        </p:nvSpPr>
        <p:spPr>
          <a:xfrm>
            <a:off x="4084560" y="53402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46"/>
          <p:cNvSpPr/>
          <p:nvPr/>
        </p:nvSpPr>
        <p:spPr>
          <a:xfrm>
            <a:off x="4729320" y="56847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47"/>
          <p:cNvSpPr/>
          <p:nvPr/>
        </p:nvSpPr>
        <p:spPr>
          <a:xfrm>
            <a:off x="541512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48"/>
          <p:cNvSpPr/>
          <p:nvPr/>
        </p:nvSpPr>
        <p:spPr>
          <a:xfrm>
            <a:off x="3900600" y="32576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9"/>
          <p:cNvSpPr/>
          <p:nvPr/>
        </p:nvSpPr>
        <p:spPr>
          <a:xfrm>
            <a:off x="4510080" y="3333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50"/>
          <p:cNvSpPr/>
          <p:nvPr/>
        </p:nvSpPr>
        <p:spPr>
          <a:xfrm>
            <a:off x="5576760" y="4095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51"/>
          <p:cNvSpPr/>
          <p:nvPr/>
        </p:nvSpPr>
        <p:spPr>
          <a:xfrm flipV="1">
            <a:off x="3129120" y="3257640"/>
            <a:ext cx="2143080" cy="288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3"/>
          <p:cNvSpPr/>
          <p:nvPr/>
        </p:nvSpPr>
        <p:spPr>
          <a:xfrm flipH="1" flipV="1">
            <a:off x="4464000" y="4362120"/>
            <a:ext cx="254160" cy="183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Oval 55"/>
          <p:cNvSpPr/>
          <p:nvPr/>
        </p:nvSpPr>
        <p:spPr>
          <a:xfrm>
            <a:off x="3740040" y="447660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56"/>
          <p:cNvSpPr/>
          <p:nvPr/>
        </p:nvSpPr>
        <p:spPr>
          <a:xfrm>
            <a:off x="4013280" y="5272200"/>
            <a:ext cx="228600" cy="2188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57"/>
          <p:cNvSpPr/>
          <p:nvPr/>
        </p:nvSpPr>
        <p:spPr>
          <a:xfrm>
            <a:off x="4646520" y="4459320"/>
            <a:ext cx="228600" cy="218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8"/>
          <p:cNvSpPr/>
          <p:nvPr/>
        </p:nvSpPr>
        <p:spPr>
          <a:xfrm flipH="1" flipV="1">
            <a:off x="3839760" y="5176440"/>
            <a:ext cx="244440" cy="17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 flipH="1" flipV="1">
            <a:off x="3892680" y="4614840"/>
            <a:ext cx="234720" cy="1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60"/>
          <p:cNvSpPr/>
          <p:nvPr/>
        </p:nvSpPr>
        <p:spPr>
          <a:xfrm flipV="1">
            <a:off x="3567240" y="3438360"/>
            <a:ext cx="2009520" cy="269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61"/>
          <p:cNvSpPr/>
          <p:nvPr/>
        </p:nvSpPr>
        <p:spPr>
          <a:xfrm flipV="1">
            <a:off x="2919240" y="3076200"/>
            <a:ext cx="2067120" cy="277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earni SVM – matematik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66760" y="1434960"/>
            <a:ext cx="8835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ka je skup za obučavanje {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-1, 1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no separabilan i neka je granica hiperravan sa marginom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Za svaki primjer iz skupa za obučavan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važ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 svaki support vek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rnje nejednakosti postaju jednakosti.    Poslije skaliranj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a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jednakost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obijao da je rastojanje između svako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iperrav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da se margina može izraziti preko (skalirani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b ka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703440" y="2603520"/>
            <a:ext cx="3809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5"/>
              <p:cNvSpPr txBox="1"/>
              <p:nvPr/>
            </p:nvSpPr>
            <p:spPr>
              <a:xfrm>
                <a:off x="3608280" y="5457960"/>
                <a:ext cx="1281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6"/>
              <p:cNvSpPr txBox="1"/>
              <p:nvPr/>
            </p:nvSpPr>
            <p:spPr>
              <a:xfrm>
                <a:off x="5740560" y="4152960"/>
                <a:ext cx="22669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Text Box 7"/>
          <p:cNvSpPr/>
          <p:nvPr/>
        </p:nvSpPr>
        <p:spPr>
          <a:xfrm>
            <a:off x="4836960" y="2732040"/>
            <a:ext cx="381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4184640" y="263052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earni SVM – matematika (nastavak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žemo formulisati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vadratni optimizacioni zadat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že se preformulisati ka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1022400" y="2019240"/>
            <a:ext cx="5886360" cy="16225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ć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oji maksimiziraj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 uslo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5"/>
              <p:cNvSpPr txBox="1"/>
              <p:nvPr/>
            </p:nvSpPr>
            <p:spPr>
              <a:xfrm>
                <a:off x="1397160" y="2457360"/>
                <a:ext cx="8078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Text Box 6"/>
          <p:cNvSpPr/>
          <p:nvPr/>
        </p:nvSpPr>
        <p:spPr>
          <a:xfrm>
            <a:off x="1047600" y="4295880"/>
            <a:ext cx="6438960" cy="16225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ć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oji minimizira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||w|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 uslo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9:56:21Z</dcterms:created>
  <dc:creator>Mikhail Bilenko</dc:creator>
  <dc:description/>
  <dc:language>en-US</dc:language>
  <cp:lastModifiedBy>Goran Sukovic</cp:lastModifiedBy>
  <dcterms:modified xsi:type="dcterms:W3CDTF">2017-12-23T18:42:59Z</dcterms:modified>
  <cp:revision>49</cp:revision>
  <dc:subject/>
  <dc:title>Support Vector Machines</dc:title>
</cp:coreProperties>
</file>